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29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1.jpeg" ContentType="image/jpeg"/>
  <Override PartName="/ppt/media/image4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23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24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7E15-1DFD-44A6-A51F-3DA8F13FC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3 Marcador de número de diapositiva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42C8-40E8-47B9-8D0E-18E1C99382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A17-FCBD-4300-8A03-62EDE266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B9C5-5611-4767-A36A-B8A89907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E15C-9AAA-4592-8273-A5BB78A1E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8A5C-2741-4C66-B057-A8630B87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EBD3-951C-4102-BA29-E1736C64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5C0-B73A-4D30-928E-1B7FE03C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81A-CA77-4074-9EC2-DED125A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3D3-3A7B-4B7F-9252-B069E1C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CC1-F3D9-4225-B980-3DA53FB6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F3E3-A13E-4C25-8706-14471385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6C47-1AD1-49DC-A28F-388D881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C9F1-94CD-4F5F-99CB-37A1F5D8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B90A-50AD-4EB7-8426-1B5098A2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3988-97CE-4BE8-B826-B9805E0F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D401-1E17-492F-8506-5A3D4A83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AC87-170F-429F-8E64-49D6A55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161-CB74-491E-98BE-F6ED6430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56A-4986-4540-BD05-368BDDF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C5FA-B027-476D-B62A-F0C97A7C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13B9-0ECD-4086-9449-EE198E21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C80F-07E0-456A-9CE7-85E778CD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5D1C-3A92-4A1E-9798-C35C9985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2ADC-2C31-4757-BCE3-4F51C6FC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89FD-BA4F-41B9-B387-83DD2DD0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BC46-763E-41F0-B598-E4D9CE9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9021-1A73-4654-9977-A8784E1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A882-6E6F-4102-9688-E2B15015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44C-458D-4D1C-A989-3D2A087B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4B609-C3B5-4F4A-B6DC-18C098D2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7162-E065-480C-B661-348B5F23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C2DA-4BE6-4BB9-99ED-C238485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350D-909C-4F09-AFD7-8F67383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0EDB-068B-472A-BCE8-ECF8A1A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4BBE-1C59-4201-AF3A-88593AAC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EF97-D030-4F6F-8A0F-80AE3D7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E55B7-B5F6-446D-9244-8C1B8CDA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206DF-7BF8-43D6-BD65-C77EFE1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2CE5A-6175-49A4-A9EE-3C64E79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BF8-322F-48E8-A73A-D639E895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FD04-EAFD-4828-84EA-57ACE93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28E1-086C-44AB-9951-092AE21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4345-E44C-4847-AD84-2D019DF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E53B-EFE9-44F2-966A-AFFCB87C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8DAB-0C4C-4B04-ADA9-A2D0507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521D-6AAC-49D7-9F6F-BBEC1862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E4B9F-7549-4E33-8B8B-EEC719C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9E10-07E7-40F3-A03B-97D439DD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9856D-290E-413F-99D3-E8CCB26F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A09B2-11DA-403B-B5DF-C9317CB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1EA-133F-4604-A1A8-B9DA58CF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15D12-7B16-451F-A006-AE1F184A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A6159-A9D5-4A16-97C9-7F4158C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5B58-193F-4565-B027-A528F5A7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FC30D-C742-4C00-925E-C6A2B1C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81F4D-3337-4116-88B3-92DC1A86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A9AFB-0B6E-43C8-B87F-132242A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E996-AF06-421C-B8DD-F7AAE3D5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240FE-0B87-4DCB-9372-D1D827F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30CA-5B84-493E-9B71-0FBD0F4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7ABFF-9F94-4F60-9A13-3BE03783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A22-E3AF-4949-82C8-27F0DDD2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8A0BD-422D-48BC-80CE-3D021915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5F3D2-570B-4020-82E9-F22069DD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DDC23-7AB9-4C92-AAF1-576D7B1B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59964-469A-491F-A6BF-2C7C537A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038CE-6B46-4796-903A-D34587C5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71D66-15AC-400C-A554-0B0523FC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24CA8-CE1F-4FE9-999F-EB7D634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5F53E-7FB8-4C55-8AD9-C60A934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9738D-10C6-4BAE-A630-6F8EA7A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08109-3706-487C-B992-6E3F8727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357-D2B1-4B67-804A-4F55CE0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AB76A-931C-4D31-8B9E-EC03811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1C52A-22A8-4B99-8376-D205D50F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21E3C-5C26-43AA-9B75-FF13F258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3A417-C713-4874-930C-88DE1F0E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529A7-18B1-4E47-9B41-08CEE201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1F598-7775-47E7-8053-41F153FE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93CE9-B6BD-4762-946F-EB7199BF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BAD01-45A6-420F-9DE6-B4FABE8B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3A553-810C-40C6-A94F-54C2B0B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6E1BF-73FF-46EF-993D-BCD6AA02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903-337D-4C7D-8045-72CBAA3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B85CE-CC3C-42B7-A784-DD429E6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2E6A4-57DE-4449-AF81-DF6590D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613B4-9F53-4C8A-B44A-1C7C4C9D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AA101-B7C1-4D6D-B121-3C144B91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21647E-30F8-4B24-8F25-1351E673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60B-A68E-4742-9357-DBF87A2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CEF5-A934-4259-99CA-B2381D5954F7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A978-4D9D-464B-BBC0-87B9833FEF52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15 Elipse" descr=""/>
            <p:cNvPicPr/>
            <p:nvPr/>
          </p:nvPicPr>
          <p:blipFill>
            <a:blip r:embed="rId4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3395-0141-4D2E-95A6-8B15D8C449CB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D6B-4045-4197-9267-04F74C418BF1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12 Rectángulo" descr=""/>
            <p:cNvPicPr/>
            <p:nvPr/>
          </p:nvPicPr>
          <p:blipFill>
            <a:blip r:embed="rId4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de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8957-989E-4C64-9D31-E8F2D15AE4D7}" type="slidenum"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60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A99-9F10-49A7-81A7-391974EA007A}" type="slidenum">
              <a:rPr b="0" lang="es-E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08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2E2-21EF-44AB-90E3-86529E79606E}" type="slidenum">
              <a:rPr b="0" lang="es-ES" sz="12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6760" y="404640"/>
            <a:ext cx="82868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900" spc="-1" strike="noStrike">
                <a:solidFill>
                  <a:srgbClr val="0070c0"/>
                </a:solidFill>
                <a:latin typeface="Gill Sans MT"/>
              </a:rPr>
              <a:t>INTRODUCCIÓN A LA HISTORIA DE LAS RELIGIONES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285840" y="1857240"/>
            <a:ext cx="850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El hombre es un ser inteligente, y por lo mismo, se plantea la explicación última de todas las cosas y el sentido de su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Busca alguien más grande, más pleno, más perfecto, creador... y cuando lo encuentra lo reconoce como ser supremo: el único que puede darle la felicidad; se da cuenta que ha sido creado, y que lo anhela con todo su ser. y por eso mismo se abre a É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do esto lo hace un ser esencialmente religios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IMERA CONCLUSIÓ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religión es parte de la cultura de los pueblos, y, como tal, es objeto de estudio de diferentes disciplinas de las ciencias sociales: la Antropología cultural, la Sociología de la Religión, la Teología,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549000"/>
            <a:ext cx="306072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RISTIAN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2 Marcador de contenido"/>
          <p:cNvSpPr/>
          <p:nvPr/>
        </p:nvSpPr>
        <p:spPr>
          <a:xfrm>
            <a:off x="6083280" y="549360"/>
            <a:ext cx="30607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SLA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2 Marcador de contenido"/>
          <p:cNvSpPr/>
          <p:nvPr/>
        </p:nvSpPr>
        <p:spPr>
          <a:xfrm>
            <a:off x="5076720" y="5300640"/>
            <a:ext cx="30607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INDU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2 Marcador de contenido"/>
          <p:cNvSpPr/>
          <p:nvPr/>
        </p:nvSpPr>
        <p:spPr>
          <a:xfrm>
            <a:off x="6083280" y="2349360"/>
            <a:ext cx="3060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JUDAÍ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2 Marcador de contenido"/>
          <p:cNvSpPr/>
          <p:nvPr/>
        </p:nvSpPr>
        <p:spPr>
          <a:xfrm>
            <a:off x="250920" y="4941720"/>
            <a:ext cx="306216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BUD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http://upload.wikimedia.org/wikipedia/commons/thumb/3/38/ReligijneSymbole.svg/300px-ReligijneSymbole.svg.png"/>
          <p:cNvPicPr/>
          <p:nvPr/>
        </p:nvPicPr>
        <p:blipFill>
          <a:blip r:embed="rId1"/>
          <a:stretch/>
        </p:blipFill>
        <p:spPr>
          <a:xfrm>
            <a:off x="2411280" y="1413000"/>
            <a:ext cx="3429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300" spc="-1" strike="noStrike">
                <a:solidFill>
                  <a:srgbClr val="0070c0"/>
                </a:solidFill>
                <a:latin typeface="Gill Sans MT"/>
              </a:rPr>
              <a:t>Hechos de la Religión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1320" y="1526760"/>
            <a:ext cx="85042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Toda religión es un modo concreto de llegar a Dios: un camino de acceso a la divinidad, al Creador del universo (y de nosotros mismo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Implican una concepción de Dios y del mundo, por lo cual sus hecho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Ser Común entre los homb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s una Realidad Trascend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Provoca una Actitud Reveren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No es Manipu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71840" y="571320"/>
            <a:ext cx="5122800" cy="10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70c0"/>
                </a:solidFill>
                <a:latin typeface="Gill Sans MT"/>
              </a:rPr>
              <a:t>EL ORIGEN DE LA RELIGION</a:t>
            </a:r>
            <a:endParaRPr b="0" lang="en-US" sz="28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298440" y="1925640"/>
            <a:ext cx="547200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igión como elemento ese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er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Line 16" descr=""/>
          <p:cNvPicPr/>
          <p:nvPr/>
        </p:nvPicPr>
        <p:blipFill>
          <a:blip r:embed="rId1"/>
          <a:stretch/>
        </p:blipFill>
        <p:spPr>
          <a:xfrm>
            <a:off x="189000" y="2590920"/>
            <a:ext cx="182520" cy="676080"/>
          </a:xfrm>
          <a:prstGeom prst="rect">
            <a:avLst/>
          </a:prstGeom>
          <a:ln w="0">
            <a:noFill/>
          </a:ln>
        </p:spPr>
      </p:pic>
      <p:pic>
        <p:nvPicPr>
          <p:cNvPr id="493" name="Line 17" descr=""/>
          <p:cNvPicPr/>
          <p:nvPr/>
        </p:nvPicPr>
        <p:blipFill>
          <a:blip r:embed="rId2"/>
          <a:stretch/>
        </p:blipFill>
        <p:spPr>
          <a:xfrm>
            <a:off x="579600" y="2425680"/>
            <a:ext cx="444240" cy="311040"/>
          </a:xfrm>
          <a:prstGeom prst="rect">
            <a:avLst/>
          </a:prstGeom>
          <a:ln w="0">
            <a:noFill/>
          </a:ln>
        </p:spPr>
      </p:pic>
      <p:sp>
        <p:nvSpPr>
          <p:cNvPr id="494" name="Oval 18"/>
          <p:cNvSpPr/>
          <p:nvPr/>
        </p:nvSpPr>
        <p:spPr>
          <a:xfrm>
            <a:off x="874800" y="2717640"/>
            <a:ext cx="4537080" cy="7923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capaz de 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Line 19" descr=""/>
          <p:cNvPicPr/>
          <p:nvPr/>
        </p:nvPicPr>
        <p:blipFill>
          <a:blip r:embed="rId3"/>
          <a:stretch/>
        </p:blipFill>
        <p:spPr>
          <a:xfrm>
            <a:off x="189000" y="3097080"/>
            <a:ext cx="182520" cy="1103400"/>
          </a:xfrm>
          <a:prstGeom prst="rect">
            <a:avLst/>
          </a:prstGeom>
          <a:ln w="0">
            <a:noFill/>
          </a:ln>
        </p:spPr>
      </p:pic>
      <p:pic>
        <p:nvPicPr>
          <p:cNvPr id="496" name="Line 22" descr=""/>
          <p:cNvPicPr/>
          <p:nvPr/>
        </p:nvPicPr>
        <p:blipFill>
          <a:blip r:embed="rId4"/>
          <a:stretch/>
        </p:blipFill>
        <p:spPr>
          <a:xfrm>
            <a:off x="579600" y="3432240"/>
            <a:ext cx="590400" cy="311040"/>
          </a:xfrm>
          <a:prstGeom prst="rect">
            <a:avLst/>
          </a:prstGeom>
          <a:ln w="0">
            <a:noFill/>
          </a:ln>
        </p:spPr>
      </p:pic>
      <p:sp>
        <p:nvSpPr>
          <p:cNvPr id="497" name="Oval 23"/>
          <p:cNvSpPr/>
          <p:nvPr/>
        </p:nvSpPr>
        <p:spPr>
          <a:xfrm>
            <a:off x="1017720" y="3726000"/>
            <a:ext cx="5329080" cy="7189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ocimiento de la existencia de 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>
            <a:off x="6346800" y="3149640"/>
            <a:ext cx="2665440" cy="71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a experi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514440" y="4950000"/>
            <a:ext cx="4608360" cy="504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xplicación última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6"/>
          <p:cNvSpPr/>
          <p:nvPr/>
        </p:nvSpPr>
        <p:spPr>
          <a:xfrm>
            <a:off x="5770440" y="4589640"/>
            <a:ext cx="3095640" cy="1296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explicación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do últim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a hum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Line 29" descr=""/>
          <p:cNvPicPr/>
          <p:nvPr/>
        </p:nvPicPr>
        <p:blipFill>
          <a:blip r:embed="rId5"/>
          <a:stretch/>
        </p:blipFill>
        <p:spPr>
          <a:xfrm>
            <a:off x="5614920" y="3382920"/>
            <a:ext cx="882720" cy="603360"/>
          </a:xfrm>
          <a:prstGeom prst="rect">
            <a:avLst/>
          </a:prstGeom>
          <a:ln w="0">
            <a:noFill/>
          </a:ln>
        </p:spPr>
      </p:pic>
      <p:pic>
        <p:nvPicPr>
          <p:cNvPr id="502" name="Line 30" descr=""/>
          <p:cNvPicPr/>
          <p:nvPr/>
        </p:nvPicPr>
        <p:blipFill>
          <a:blip r:embed="rId6"/>
          <a:stretch/>
        </p:blipFill>
        <p:spPr>
          <a:xfrm>
            <a:off x="2189160" y="4389480"/>
            <a:ext cx="304920" cy="743040"/>
          </a:xfrm>
          <a:prstGeom prst="rect">
            <a:avLst/>
          </a:prstGeom>
          <a:ln w="0">
            <a:noFill/>
          </a:ln>
        </p:spPr>
      </p:pic>
      <p:pic>
        <p:nvPicPr>
          <p:cNvPr id="503" name="Line 31" descr=""/>
          <p:cNvPicPr/>
          <p:nvPr/>
        </p:nvPicPr>
        <p:blipFill>
          <a:blip r:embed="rId7"/>
          <a:stretch/>
        </p:blipFill>
        <p:spPr>
          <a:xfrm>
            <a:off x="4956120" y="4309920"/>
            <a:ext cx="96840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9720" y="35676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f4259"/>
                </a:solidFill>
                <a:latin typeface="Gill Sans MT"/>
              </a:rPr>
              <a:t>      </a:t>
            </a:r>
            <a:r>
              <a:rPr b="1" lang="es-E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ER HUMANO Y LAS DIVERSAS </a:t>
            </a:r>
            <a:br>
              <a:rPr sz="2200"/>
            </a:br>
            <a:r>
              <a:rPr b="1" lang="es-ES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RESIONES DE SU RELIGIOSIDAD</a:t>
            </a:r>
            <a:endParaRPr b="0" lang="en-US" sz="22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5714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rácter religioso del hombre se manifiesta por los rastros más primitivos de su herencia 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imeros actos del hombre primitivo están relacionados con la relig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s grandes civilizaciones de la humanidad surge el elemento religioso que configura la cultura de cada pueblo y la convivencia entre los hombr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lemento religioso se hace real en una amplitud de expresiones religio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4592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Signos de la Religión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andes masas son motivadas por ell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 hombre tiende a creer en lo que no puede domin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Etimología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Religuere = Religado”. Invita 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is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lver a ordena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er datos para luego convertirlos en deber para nuestra vida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300" spc="-1" strike="noStrike">
                <a:solidFill>
                  <a:srgbClr val="0070c0"/>
                </a:solidFill>
                <a:latin typeface="Gill Sans MT"/>
              </a:rPr>
              <a:t>Modos de Plantearse la Religión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n general, se citar: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. Ascendente: el hombre busca caminos hacia su Creador: se esfuerza por llegar, se “estira” para alcanzar a Dios: conocerlo, agradarlo, honrarlo.</a:t>
            </a: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2. Descendente: Dios que se dirige al hombre y se revela, lo salva y le muestra el camino de salv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300" spc="-1" strike="noStrike">
                <a:solidFill>
                  <a:srgbClr val="0070c0"/>
                </a:solidFill>
                <a:latin typeface="Gill Sans MT"/>
              </a:rPr>
              <a:t>Tipos de Conocimiento de Dio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2920" y="142848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. Natural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hombre sin mayores razonamientos puede llegar a Dios a través de vías naturales (admiración del orden en lo existent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. Mediante la Revelación Cristiana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A través de la propia manifestación de Dios, es decir a través de la Bibl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. Mediante la Acción Salvífica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Dios actúa en todas partes; hay posibilidad de que actúa también en uno mismo. Entonces se da partir de la experiencia personal, uno experimenta lo que puede hacer el poder Div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Dios como persona?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Sólo analógicamente pues no está sujeto a limitaciones -  tiempo y espacio – no está determinado por la individualidad (puede dirigirse a varios a la vez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900" spc="-1" strike="noStrike">
                <a:solidFill>
                  <a:srgbClr val="0070c0"/>
                </a:solidFill>
                <a:latin typeface="Gill Sans MT"/>
              </a:rPr>
              <a:t>Características Fundamentales de la Religión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57120" y="200016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istema de Pensamientos y Creencias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Que otorgan un sentido a la doctrin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. de Prácticas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Costumbres producto del consenso. Se asume un compromis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. de Cosas Sagradas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Que producen en el hombre Veneración y Cul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istemas Compartidos por la Comunidad: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Aspecto Social – ecles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a Religión será por tal: Una Realidad TOT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La fe como presupuesto …ES…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836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“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Garantía de lo que se espera; la prueba de las realidades que no se ven” (Heb 11,1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 apoya en la certeza  y por la certeza el hombre es capaz de Di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l asentimiento libre a toda la verdad que Dios ha revelado (CC 150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Un acto auténticamente humano… En la fe inteligencia y voluntad… cooperan con la gracia Divina. Creer es un acto del entendimiento que asiente a la verdad divina por imperio de la voluntad… (CC 155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362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Gill Sans MT"/>
              </a:rPr>
              <a:t>¿Cómo reconoce el hombre a Dio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?</a:t>
            </a:r>
            <a:endParaRPr b="0" lang="en-US" sz="36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1424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Respecto a lo sagrado y el ri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Desde un punto de vista sociológic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Durkheim identifica lo sagrado a partir del totemismo. 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n su opinión el tótem es considerado como representación de una búsqueda soci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o sagrado para el es considerado como el  reconocimiento del 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mana (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fuerza colectiva que trasciende el esfuerzo individual  y se ubica como potencia sagrada). En cambio lo profano es solo resultado del esfuerzo individu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a vivencia del mana o </a:t>
            </a: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fuerza grupal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al ser conmemorada o celebrada en ciertos lugares y ciertos modos inicia una tradición ritu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Características de la Fe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14200" y="142884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s respuesta del hombre a         D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s un Don (Virtud sobrenatural infundida por Dios CC 153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acto de Fe lleva Confianza y ésta da estabilidad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El acto de Fe es Escucha que conlleva OBEDIENCI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Es una Respuesta libre al llamado de Dios (Amor que es  Fie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70c0"/>
                </a:solidFill>
                <a:latin typeface="Gill Sans MT"/>
              </a:rPr>
              <a:t>CUALIDADES DE LA F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Fragil: Hay dudas – inestabil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Dinámica: En las horas difíciles mayor ha de s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Confiar: Es saber Mirar, escuchar – comprender el mensaje de Di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Viva: Interactúa con la Esperanza y la Car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Alegre: Depende de la opción y no de lo que se hag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5840" y="564372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terpretaciones sobre el origen de la religión varían según las diversas concepciones filosóficas o científicas de los autores. </a:t>
            </a:r>
            <a:endParaRPr b="0" lang="en-US" sz="2400" spc="-1" strike="noStrike">
              <a:solidFill>
                <a:srgbClr val="3f4259"/>
              </a:solidFill>
              <a:latin typeface="Gill Sans MT"/>
            </a:endParaRPr>
          </a:p>
        </p:txBody>
      </p:sp>
      <p:pic>
        <p:nvPicPr>
          <p:cNvPr id="519" name="Organization Chart 5" descr=""/>
          <p:cNvPicPr/>
          <p:nvPr/>
        </p:nvPicPr>
        <p:blipFill>
          <a:blip r:embed="rId1"/>
          <a:stretch/>
        </p:blipFill>
        <p:spPr>
          <a:xfrm>
            <a:off x="103320" y="1249200"/>
            <a:ext cx="8869320" cy="425628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1143000" y="285840"/>
            <a:ext cx="7497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Gill Sans MT"/>
              </a:rPr>
              <a:t>Interpretes adversos a la Relig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Organization Chart 5"/>
          <p:cNvGrpSpPr/>
          <p:nvPr/>
        </p:nvGrpSpPr>
        <p:grpSpPr>
          <a:xfrm>
            <a:off x="3170160" y="758880"/>
            <a:ext cx="5437080" cy="5505480"/>
            <a:chOff x="3170160" y="758880"/>
            <a:chExt cx="5437080" cy="5505480"/>
          </a:xfrm>
        </p:grpSpPr>
        <p:cxnSp>
          <p:nvCxnSpPr>
            <p:cNvPr id="522" name="_s1028"/>
            <p:cNvCxnSpPr>
              <a:stCxn id="523" idx="1"/>
              <a:endCxn id="524" idx="2"/>
            </p:cNvCxnSpPr>
            <p:nvPr/>
          </p:nvCxnSpPr>
          <p:spPr>
            <a:xfrm rot="10800000">
              <a:off x="4934520" y="1215360"/>
              <a:ext cx="126360" cy="4321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5" name="_s1029"/>
            <p:cNvCxnSpPr>
              <a:stCxn id="526" idx="1"/>
              <a:endCxn id="524" idx="2"/>
            </p:cNvCxnSpPr>
            <p:nvPr/>
          </p:nvCxnSpPr>
          <p:spPr>
            <a:xfrm rot="10800000">
              <a:off x="4933080" y="1215360"/>
              <a:ext cx="129240" cy="263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7" name="_s1030"/>
            <p:cNvCxnSpPr>
              <a:stCxn id="528" idx="1"/>
              <a:endCxn id="524" idx="2"/>
            </p:cNvCxnSpPr>
            <p:nvPr/>
          </p:nvCxnSpPr>
          <p:spPr>
            <a:xfrm rot="10800000">
              <a:off x="4933080" y="1215360"/>
              <a:ext cx="129240" cy="95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24" name="_s1031"/>
            <p:cNvSpPr/>
            <p:nvPr/>
          </p:nvSpPr>
          <p:spPr>
            <a:xfrm>
              <a:off x="3170160" y="758880"/>
              <a:ext cx="3529080" cy="4572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EVOLUCION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_s1032"/>
            <p:cNvSpPr/>
            <p:nvPr/>
          </p:nvSpPr>
          <p:spPr>
            <a:xfrm>
              <a:off x="5062320" y="1444680"/>
              <a:ext cx="3544920" cy="145404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pirado en la ob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 Charles Dar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_s1033"/>
            <p:cNvSpPr/>
            <p:nvPr/>
          </p:nvSpPr>
          <p:spPr>
            <a:xfrm>
              <a:off x="5062320" y="3127320"/>
              <a:ext cx="3544920" cy="145440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tiene que el 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medida que evolucio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recienta progresivam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 mundo religio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1034"/>
            <p:cNvSpPr/>
            <p:nvPr/>
          </p:nvSpPr>
          <p:spPr>
            <a:xfrm>
              <a:off x="5060880" y="4810320"/>
              <a:ext cx="3544920" cy="14540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mundo esta en constan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olución por el paso a 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iencia del 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2" descr="http://farm3.static.flickr.com/2185/2352531651_571889d6b5.jpg"/>
          <p:cNvPicPr/>
          <p:nvPr/>
        </p:nvPicPr>
        <p:blipFill>
          <a:blip r:embed="rId1"/>
          <a:stretch/>
        </p:blipFill>
        <p:spPr>
          <a:xfrm>
            <a:off x="1214280" y="1714680"/>
            <a:ext cx="3024360" cy="2881080"/>
          </a:xfrm>
          <a:prstGeom prst="rect">
            <a:avLst/>
          </a:prstGeom>
          <a:ln w="0">
            <a:noFill/>
          </a:ln>
        </p:spPr>
      </p:pic>
      <p:sp>
        <p:nvSpPr>
          <p:cNvPr id="530" name="1 Rectángulo redondeado"/>
          <p:cNvSpPr/>
          <p:nvPr/>
        </p:nvSpPr>
        <p:spPr>
          <a:xfrm>
            <a:off x="1143000" y="4786200"/>
            <a:ext cx="3024360" cy="158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agen de la pelíc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En busca del fuego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Diagram 5"/>
          <p:cNvGrpSpPr/>
          <p:nvPr/>
        </p:nvGrpSpPr>
        <p:grpSpPr>
          <a:xfrm>
            <a:off x="324000" y="333360"/>
            <a:ext cx="8505000" cy="6203520"/>
            <a:chOff x="324000" y="333360"/>
            <a:chExt cx="8505000" cy="6203520"/>
          </a:xfrm>
        </p:grpSpPr>
        <p:sp>
          <p:nvSpPr>
            <p:cNvPr id="532" name="_s2052"/>
            <p:cNvSpPr/>
            <p:nvPr/>
          </p:nvSpPr>
          <p:spPr>
            <a:xfrm>
              <a:off x="3708360" y="1215360"/>
              <a:ext cx="2179440" cy="2520720"/>
            </a:xfrm>
            <a:prstGeom prst="ellipse">
              <a:avLst/>
            </a:prstGeom>
            <a:solidFill>
              <a:srgbClr val="438086">
                <a:alpha val="50000"/>
              </a:srgbClr>
            </a:solidFill>
            <a:ln w="468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2053"/>
            <p:cNvSpPr/>
            <p:nvPr/>
          </p:nvSpPr>
          <p:spPr>
            <a:xfrm>
              <a:off x="3299760" y="333360"/>
              <a:ext cx="21787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RACIONAL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2054"/>
            <p:cNvSpPr/>
            <p:nvPr/>
          </p:nvSpPr>
          <p:spPr>
            <a:xfrm>
              <a:off x="4576320" y="2214720"/>
              <a:ext cx="2179440" cy="2520720"/>
            </a:xfrm>
            <a:prstGeom prst="ellipse">
              <a:avLst/>
            </a:prstGeom>
            <a:solidFill>
              <a:srgbClr val="67afbd">
                <a:alpha val="50000"/>
              </a:srgbClr>
            </a:solidFill>
            <a:ln w="468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2055"/>
            <p:cNvSpPr/>
            <p:nvPr/>
          </p:nvSpPr>
          <p:spPr>
            <a:xfrm>
              <a:off x="5785920" y="2214720"/>
              <a:ext cx="3043080" cy="21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azón se ve oblig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buscar una expl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cional a los profund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sterios de la vid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um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2056"/>
            <p:cNvSpPr/>
            <p:nvPr/>
          </p:nvSpPr>
          <p:spPr>
            <a:xfrm>
              <a:off x="3972960" y="3200040"/>
              <a:ext cx="2178720" cy="2520720"/>
            </a:xfrm>
            <a:prstGeom prst="ellipse">
              <a:avLst/>
            </a:prstGeom>
            <a:solidFill>
              <a:srgbClr val="c2a874">
                <a:alpha val="50000"/>
              </a:srgbClr>
            </a:solidFill>
            <a:ln w="468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2057"/>
            <p:cNvSpPr/>
            <p:nvPr/>
          </p:nvSpPr>
          <p:spPr>
            <a:xfrm>
              <a:off x="3299760" y="4900320"/>
              <a:ext cx="2178720" cy="16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lica el origen de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ón como un 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ado por la propia raz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2058"/>
            <p:cNvSpPr/>
            <p:nvPr/>
          </p:nvSpPr>
          <p:spPr>
            <a:xfrm>
              <a:off x="2482560" y="2247840"/>
              <a:ext cx="2179440" cy="2520720"/>
            </a:xfrm>
            <a:prstGeom prst="ellipse">
              <a:avLst/>
            </a:prstGeom>
            <a:solidFill>
              <a:srgbClr val="dedede">
                <a:alpha val="50000"/>
              </a:srgbClr>
            </a:solidFill>
            <a:ln w="468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2059"/>
            <p:cNvSpPr/>
            <p:nvPr/>
          </p:nvSpPr>
          <p:spPr>
            <a:xfrm>
              <a:off x="324000" y="3134160"/>
              <a:ext cx="21794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cionalistas acepta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existencia de un fond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o grabado en 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lma humana al que llama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religión natural o deí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Diagram 5"/>
          <p:cNvGrpSpPr/>
          <p:nvPr/>
        </p:nvGrpSpPr>
        <p:grpSpPr>
          <a:xfrm>
            <a:off x="324000" y="642960"/>
            <a:ext cx="8385840" cy="4514400"/>
            <a:chOff x="324000" y="642960"/>
            <a:chExt cx="8385840" cy="4514400"/>
          </a:xfrm>
        </p:grpSpPr>
        <p:sp>
          <p:nvSpPr>
            <p:cNvPr id="541" name="_s3076"/>
            <p:cNvSpPr/>
            <p:nvPr/>
          </p:nvSpPr>
          <p:spPr>
            <a:xfrm>
              <a:off x="3553560" y="1266840"/>
              <a:ext cx="2181240" cy="1842840"/>
            </a:xfrm>
            <a:prstGeom prst="ellipse">
              <a:avLst/>
            </a:prstGeom>
            <a:solidFill>
              <a:srgbClr val="438086">
                <a:alpha val="50000"/>
              </a:srgbClr>
            </a:solidFill>
            <a:ln w="468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3077"/>
            <p:cNvSpPr/>
            <p:nvPr/>
          </p:nvSpPr>
          <p:spPr>
            <a:xfrm>
              <a:off x="3071160" y="642960"/>
              <a:ext cx="322956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MARX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3078"/>
            <p:cNvSpPr/>
            <p:nvPr/>
          </p:nvSpPr>
          <p:spPr>
            <a:xfrm>
              <a:off x="4383720" y="1968480"/>
              <a:ext cx="2181240" cy="1842840"/>
            </a:xfrm>
            <a:prstGeom prst="ellipse">
              <a:avLst/>
            </a:prstGeom>
            <a:solidFill>
              <a:srgbClr val="67afbd">
                <a:alpha val="50000"/>
              </a:srgbClr>
            </a:solidFill>
            <a:ln w="4680">
              <a:solidFill>
                <a:srgbClr val="67af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3079"/>
            <p:cNvSpPr/>
            <p:nvPr/>
          </p:nvSpPr>
          <p:spPr>
            <a:xfrm>
              <a:off x="5785560" y="2214360"/>
              <a:ext cx="2924280" cy="17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idera que la relig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 una estructura 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italismo con el fin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ner dominada la cla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letar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_s3080"/>
            <p:cNvSpPr/>
            <p:nvPr/>
          </p:nvSpPr>
          <p:spPr>
            <a:xfrm>
              <a:off x="3553560" y="2676600"/>
              <a:ext cx="2181240" cy="1842840"/>
            </a:xfrm>
            <a:prstGeom prst="ellipse">
              <a:avLst/>
            </a:prstGeom>
            <a:solidFill>
              <a:srgbClr val="c2a874">
                <a:alpha val="50000"/>
              </a:srgbClr>
            </a:solidFill>
            <a:ln w="468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_s3081"/>
            <p:cNvSpPr/>
            <p:nvPr/>
          </p:nvSpPr>
          <p:spPr>
            <a:xfrm>
              <a:off x="3553560" y="4696560"/>
              <a:ext cx="21812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 expresión más grafica es 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La religión es el opio del pueb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_s3082"/>
            <p:cNvSpPr/>
            <p:nvPr/>
          </p:nvSpPr>
          <p:spPr>
            <a:xfrm>
              <a:off x="2723040" y="1968480"/>
              <a:ext cx="2181240" cy="1842840"/>
            </a:xfrm>
            <a:prstGeom prst="ellipse">
              <a:avLst/>
            </a:prstGeom>
            <a:solidFill>
              <a:srgbClr val="c2a874">
                <a:alpha val="50000"/>
              </a:srgbClr>
            </a:solidFill>
            <a:ln w="4680">
              <a:solidFill>
                <a:srgbClr val="c2a8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_s3083"/>
            <p:cNvSpPr/>
            <p:nvPr/>
          </p:nvSpPr>
          <p:spPr>
            <a:xfrm>
              <a:off x="324000" y="2659680"/>
              <a:ext cx="32295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800" spc="-1" strike="noStrike">
                  <a:solidFill>
                    <a:srgbClr val="cc00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ulado por Karl Mar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15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i todas estas teorías –superadas desde el punto de  vista científico- siguen teniendo c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gencia como tópicos o prejuicios, y a menudo se repiten en periódicos, revist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s de televisió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versas ciencias enseñan que existen caminos de acceso a Dios, como una realidad sobre la que la inteligencia humana tiene mucho que 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eriencia de numerosos hombres de ciencia, muestra que la razón humana no se detiene ante respuestas poco cohere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8200" indent="-457200" algn="just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cadena de los “por qués” surge la interrogación sobre Dios. ¿Puede la razón humana alcanzar a Dios?, ¿Tiene potencia suficiente para decir algo sobre un Ser que le trasciende?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storia del pensamiento muestra que el ser humano llega a Dios no solo como explicación última del mundo, sino por exigencias íntimas de su propia vi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28760" y="2000160"/>
            <a:ext cx="374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que inquieta al hom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su propi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219640" y="2421000"/>
            <a:ext cx="3600360" cy="1224000"/>
          </a:xfrm>
          <a:prstGeom prst="ellipse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De donde venim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3203640" y="3789360"/>
            <a:ext cx="5400720" cy="1511280"/>
          </a:xfrm>
          <a:prstGeom prst="ellipse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entido tienen el dolor y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rimie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324000" y="5300640"/>
            <a:ext cx="4895640" cy="1224000"/>
          </a:xfrm>
          <a:prstGeom prst="ellipse">
            <a:avLst/>
          </a:prstGeom>
          <a:solidFill>
            <a:srgbClr val="dee9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y después de la muer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AutoShape 8"/>
          <p:cNvGrpSpPr/>
          <p:nvPr/>
        </p:nvGrpSpPr>
        <p:grpSpPr>
          <a:xfrm>
            <a:off x="4187880" y="2968560"/>
            <a:ext cx="841320" cy="420840"/>
            <a:chOff x="4187880" y="2968560"/>
            <a:chExt cx="841320" cy="420840"/>
          </a:xfrm>
        </p:grpSpPr>
        <p:pic>
          <p:nvPicPr>
            <p:cNvPr id="557" name="AutoShape 8" descr=""/>
            <p:cNvPicPr/>
            <p:nvPr/>
          </p:nvPicPr>
          <p:blipFill>
            <a:blip r:embed="rId1"/>
            <a:stretch/>
          </p:blipFill>
          <p:spPr>
            <a:xfrm>
              <a:off x="4187880" y="2968560"/>
              <a:ext cx="84132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335480" y="3087720"/>
              <a:ext cx="5698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AutoShape 10"/>
          <p:cNvGrpSpPr/>
          <p:nvPr/>
        </p:nvGrpSpPr>
        <p:grpSpPr>
          <a:xfrm>
            <a:off x="1951200" y="3693960"/>
            <a:ext cx="560160" cy="1414440"/>
            <a:chOff x="1951200" y="3693960"/>
            <a:chExt cx="560160" cy="1414440"/>
          </a:xfrm>
        </p:grpSpPr>
        <p:pic>
          <p:nvPicPr>
            <p:cNvPr id="560" name="AutoShape 10" descr=""/>
            <p:cNvPicPr/>
            <p:nvPr/>
          </p:nvPicPr>
          <p:blipFill>
            <a:blip r:embed="rId2"/>
            <a:stretch/>
          </p:blipFill>
          <p:spPr>
            <a:xfrm>
              <a:off x="1951200" y="3693960"/>
              <a:ext cx="5601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2106720" y="3716280"/>
              <a:ext cx="25236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1 Flecha abajo"/>
          <p:cNvGrpSpPr/>
          <p:nvPr/>
        </p:nvGrpSpPr>
        <p:grpSpPr>
          <a:xfrm>
            <a:off x="3408480" y="3340080"/>
            <a:ext cx="388800" cy="677880"/>
            <a:chOff x="3408480" y="3340080"/>
            <a:chExt cx="388800" cy="677880"/>
          </a:xfrm>
        </p:grpSpPr>
        <p:pic>
          <p:nvPicPr>
            <p:cNvPr id="563" name="1 Flecha abajo" descr=""/>
            <p:cNvPicPr/>
            <p:nvPr/>
          </p:nvPicPr>
          <p:blipFill>
            <a:blip r:embed="rId3"/>
            <a:stretch/>
          </p:blipFill>
          <p:spPr>
            <a:xfrm>
              <a:off x="3408480" y="3340080"/>
              <a:ext cx="3888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3510000" y="3357720"/>
              <a:ext cx="179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Organization Chart 5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cxnSp>
          <p:nvCxnSpPr>
            <p:cNvPr id="566" name="_s1028"/>
            <p:cNvCxnSpPr>
              <a:stCxn id="567" idx="0"/>
              <a:endCxn id="568" idx="2"/>
            </p:cNvCxnSpPr>
            <p:nvPr/>
          </p:nvCxnSpPr>
          <p:spPr>
            <a:xfrm flipV="1" rot="16200000">
              <a:off x="6297480" y="4105440"/>
              <a:ext cx="286920" cy="1915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9" name="_s1029"/>
            <p:cNvCxnSpPr>
              <a:stCxn id="570" idx="0"/>
              <a:endCxn id="568" idx="2"/>
            </p:cNvCxnSpPr>
            <p:nvPr/>
          </p:nvCxnSpPr>
          <p:spPr>
            <a:xfrm flipH="1" flipV="1" rot="5400000">
              <a:off x="4383000" y="4105440"/>
              <a:ext cx="286920" cy="1915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1" name="_s1030"/>
            <p:cNvCxnSpPr>
              <a:stCxn id="568" idx="1"/>
              <a:endCxn id="572" idx="2"/>
            </p:cNvCxnSpPr>
            <p:nvPr/>
          </p:nvCxnSpPr>
          <p:spPr>
            <a:xfrm rot="10800000">
              <a:off x="1489680" y="635400"/>
              <a:ext cx="687960" cy="371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3" name="_s1031"/>
            <p:cNvCxnSpPr>
              <a:stCxn id="574" idx="1"/>
              <a:endCxn id="572" idx="2"/>
            </p:cNvCxnSpPr>
            <p:nvPr/>
          </p:nvCxnSpPr>
          <p:spPr>
            <a:xfrm rot="10800000">
              <a:off x="1489680" y="635400"/>
              <a:ext cx="687960" cy="228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5" name="_s1032"/>
            <p:cNvCxnSpPr>
              <a:stCxn id="576" idx="1"/>
              <a:endCxn id="572" idx="2"/>
            </p:cNvCxnSpPr>
            <p:nvPr/>
          </p:nvCxnSpPr>
          <p:spPr>
            <a:xfrm rot="10800000">
              <a:off x="1489680" y="635400"/>
              <a:ext cx="687960" cy="85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72" name="_s1033"/>
            <p:cNvSpPr/>
            <p:nvPr/>
          </p:nvSpPr>
          <p:spPr>
            <a:xfrm>
              <a:off x="0" y="0"/>
              <a:ext cx="2981520" cy="636120"/>
            </a:xfrm>
            <a:prstGeom prst="roundRect">
              <a:avLst>
                <a:gd name="adj" fmla="val 16667"/>
              </a:avLst>
            </a:prstGeom>
            <a:solidFill>
              <a:srgbClr val="ecde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_s1034"/>
            <p:cNvSpPr/>
            <p:nvPr/>
          </p:nvSpPr>
          <p:spPr>
            <a:xfrm>
              <a:off x="2177280" y="922680"/>
              <a:ext cx="6613200" cy="1141560"/>
            </a:xfrm>
            <a:prstGeom prst="roundRect">
              <a:avLst>
                <a:gd name="adj" fmla="val 16667"/>
              </a:avLst>
            </a:prstGeom>
            <a:solidFill>
              <a:srgbClr val="dee9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encuentra respuestas en l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uraleza fís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_s1035"/>
            <p:cNvSpPr/>
            <p:nvPr/>
          </p:nvSpPr>
          <p:spPr>
            <a:xfrm>
              <a:off x="2177280" y="2350800"/>
              <a:ext cx="6613200" cy="1141560"/>
            </a:xfrm>
            <a:prstGeom prst="roundRect">
              <a:avLst>
                <a:gd name="adj" fmla="val 16667"/>
              </a:avLst>
            </a:prstGeom>
            <a:solidFill>
              <a:srgbClr val="dee9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vuelve sob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_s1036"/>
            <p:cNvSpPr/>
            <p:nvPr/>
          </p:nvSpPr>
          <p:spPr>
            <a:xfrm>
              <a:off x="2177280" y="3778920"/>
              <a:ext cx="6613200" cy="114156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experiencia interior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_s1037"/>
            <p:cNvSpPr/>
            <p:nvPr/>
          </p:nvSpPr>
          <p:spPr>
            <a:xfrm>
              <a:off x="1824120" y="5206680"/>
              <a:ext cx="3492000" cy="16506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lleva a super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ámbito de 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mediato y sensori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_s1038"/>
            <p:cNvSpPr/>
            <p:nvPr/>
          </p:nvSpPr>
          <p:spPr>
            <a:xfrm>
              <a:off x="5650920" y="5206680"/>
              <a:ext cx="3492360" cy="165060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invita a entrar en e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ndo de lo espiritual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Organization Chart 5"/>
          <p:cNvGrpSpPr/>
          <p:nvPr/>
        </p:nvGrpSpPr>
        <p:grpSpPr>
          <a:xfrm>
            <a:off x="324000" y="476280"/>
            <a:ext cx="8819280" cy="6139080"/>
            <a:chOff x="324000" y="476280"/>
            <a:chExt cx="8819280" cy="6139080"/>
          </a:xfrm>
        </p:grpSpPr>
        <p:cxnSp>
          <p:nvCxnSpPr>
            <p:cNvPr id="578" name="_s2052"/>
            <p:cNvCxnSpPr>
              <a:stCxn id="579" idx="1"/>
              <a:endCxn id="580" idx="2"/>
            </p:cNvCxnSpPr>
            <p:nvPr/>
          </p:nvCxnSpPr>
          <p:spPr>
            <a:xfrm rot="10800000">
              <a:off x="2407680" y="2369880"/>
              <a:ext cx="488520" cy="25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0" name="_s2053"/>
            <p:cNvSpPr/>
            <p:nvPr/>
          </p:nvSpPr>
          <p:spPr>
            <a:xfrm>
              <a:off x="324000" y="476280"/>
              <a:ext cx="4169160" cy="18936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HOMB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_s2054"/>
            <p:cNvSpPr/>
            <p:nvPr/>
          </p:nvSpPr>
          <p:spPr>
            <a:xfrm>
              <a:off x="2896560" y="3221280"/>
              <a:ext cx="6246720" cy="339408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 el mundo de l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piritual descubr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30"/>
          <p:cNvSpPr/>
          <p:nvPr/>
        </p:nvSpPr>
        <p:spPr>
          <a:xfrm>
            <a:off x="539640" y="3284640"/>
            <a:ext cx="1871640" cy="57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el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1"/>
          <p:cNvSpPr/>
          <p:nvPr/>
        </p:nvSpPr>
        <p:spPr>
          <a:xfrm>
            <a:off x="3276720" y="3645000"/>
            <a:ext cx="2590560" cy="57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da m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2"/>
          <p:cNvSpPr/>
          <p:nvPr/>
        </p:nvSpPr>
        <p:spPr>
          <a:xfrm>
            <a:off x="6300720" y="3429000"/>
            <a:ext cx="2232000" cy="576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3"/>
          <p:cNvSpPr/>
          <p:nvPr/>
        </p:nvSpPr>
        <p:spPr>
          <a:xfrm>
            <a:off x="611280" y="4869000"/>
            <a:ext cx="8137440" cy="792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eriencia profunda de una religación con un 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, a quien llamamos 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4"/>
          <p:cNvSpPr/>
          <p:nvPr/>
        </p:nvSpPr>
        <p:spPr>
          <a:xfrm flipH="1">
            <a:off x="2411280" y="2997360"/>
            <a:ext cx="1440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5"/>
          <p:cNvSpPr/>
          <p:nvPr/>
        </p:nvSpPr>
        <p:spPr>
          <a:xfrm>
            <a:off x="478800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6"/>
          <p:cNvSpPr/>
          <p:nvPr/>
        </p:nvSpPr>
        <p:spPr>
          <a:xfrm>
            <a:off x="6659640" y="3141720"/>
            <a:ext cx="7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7"/>
          <p:cNvSpPr/>
          <p:nvPr/>
        </p:nvSpPr>
        <p:spPr>
          <a:xfrm>
            <a:off x="6012000" y="314172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xperiencia religiosa: es un camino de conocimiento y de descubrimiento de una realidad, que también se cumple en el conocimiento de Dios. </a:t>
            </a:r>
            <a:endParaRPr b="0" lang="en-US" sz="2400" spc="-1" strike="noStrike">
              <a:solidFill>
                <a:srgbClr val="3f4259"/>
              </a:solidFill>
              <a:latin typeface="Gill Sans MT"/>
            </a:endParaRPr>
          </a:p>
        </p:txBody>
      </p:sp>
      <p:grpSp>
        <p:nvGrpSpPr>
          <p:cNvPr id="590" name="Rectangle 19"/>
          <p:cNvGrpSpPr/>
          <p:nvPr/>
        </p:nvGrpSpPr>
        <p:grpSpPr>
          <a:xfrm>
            <a:off x="1122480" y="2048040"/>
            <a:ext cx="7819920" cy="1847520"/>
            <a:chOff x="1122480" y="2048040"/>
            <a:chExt cx="7819920" cy="1847520"/>
          </a:xfrm>
        </p:grpSpPr>
        <p:pic>
          <p:nvPicPr>
            <p:cNvPr id="591" name="Rectangle 19" descr=""/>
            <p:cNvPicPr/>
            <p:nvPr/>
          </p:nvPicPr>
          <p:blipFill>
            <a:blip r:embed="rId1"/>
            <a:stretch/>
          </p:blipFill>
          <p:spPr>
            <a:xfrm>
              <a:off x="1122480" y="2048040"/>
              <a:ext cx="7819920" cy="18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143000" y="2071800"/>
              <a:ext cx="777708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e acceso del hombre a Dios es la experiencia religiosa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hecho de que hay personas que han experimentado a Dios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e son capaces de describir lo que han sentido en contac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 Dios e incluso han hablado con É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Oval 20"/>
          <p:cNvGrpSpPr/>
          <p:nvPr/>
        </p:nvGrpSpPr>
        <p:grpSpPr>
          <a:xfrm>
            <a:off x="1335240" y="4406760"/>
            <a:ext cx="7534080" cy="1914840"/>
            <a:chOff x="1335240" y="4406760"/>
            <a:chExt cx="7534080" cy="1914840"/>
          </a:xfrm>
        </p:grpSpPr>
        <p:pic>
          <p:nvPicPr>
            <p:cNvPr id="594" name="Oval 20" descr=""/>
            <p:cNvPicPr/>
            <p:nvPr/>
          </p:nvPicPr>
          <p:blipFill>
            <a:blip r:embed="rId2"/>
            <a:stretch/>
          </p:blipFill>
          <p:spPr>
            <a:xfrm>
              <a:off x="1335240" y="4406760"/>
              <a:ext cx="753408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2454120" y="4703760"/>
              <a:ext cx="52945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fenómeno religioso es tan decisivo en la v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dividual y social, no es ajeno a ninguna de l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reas de la existencia del homb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¿Qué es una religión?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1320" y="1357200"/>
            <a:ext cx="8504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Reconocimiento de una Realida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nciente efectiva y ABSOLUTA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 la cual el hombre se siente totalmente dependiente 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a expresión huma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cho Universal que explica algo del homb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 hombre es siempre un ser Religioso. El hombre no busca la Religión sino su ser religioso; en este tránsito ha encontrado que los imperios siempre han querido destruirla pero sin éxit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46688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PUNTUALIZACIONES AL HECHO RELIGIOSO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pic>
        <p:nvPicPr>
          <p:cNvPr id="597" name="4 Imagen" descr="koinonia.jpg"/>
          <p:cNvPicPr/>
          <p:nvPr/>
        </p:nvPicPr>
        <p:blipFill>
          <a:blip r:embed="rId1"/>
          <a:stretch/>
        </p:blipFill>
        <p:spPr>
          <a:xfrm>
            <a:off x="2000160" y="357120"/>
            <a:ext cx="6357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LAS GRANDES PREGUNTA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28400" y="1715760"/>
            <a:ext cx="8429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er religioso consiste en buscar, desde una vertiente sagrada, las respuestas a las grandes preguntas que todo ser humano se plantea sobre su existenci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Cuál es el origen del univers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Cuál es el origen del ser human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Qué sentido tiene su existenci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Es la muerte el final absoluto de l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vida humana o existe algo más allá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¿En qué consiste el bien y el mal?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0" name="4 Imagen" descr="pensador.jpeg"/>
          <p:cNvPicPr/>
          <p:nvPr/>
        </p:nvPicPr>
        <p:blipFill>
          <a:blip r:embed="rId1"/>
          <a:stretch/>
        </p:blipFill>
        <p:spPr>
          <a:xfrm>
            <a:off x="6786720" y="3714840"/>
            <a:ext cx="2071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000080" y="571680"/>
            <a:ext cx="7934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3 Rectángulo redondeado"/>
          <p:cNvSpPr/>
          <p:nvPr/>
        </p:nvSpPr>
        <p:spPr>
          <a:xfrm>
            <a:off x="3786120" y="71424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7 Rectángulo redondeado"/>
          <p:cNvSpPr/>
          <p:nvPr/>
        </p:nvSpPr>
        <p:spPr>
          <a:xfrm>
            <a:off x="3571920" y="1928880"/>
            <a:ext cx="2357280" cy="6429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8 Rectángulo redondeado"/>
          <p:cNvSpPr/>
          <p:nvPr/>
        </p:nvSpPr>
        <p:spPr>
          <a:xfrm>
            <a:off x="6357960" y="1285920"/>
            <a:ext cx="2500200" cy="714240"/>
          </a:xfrm>
          <a:prstGeom prst="roundRect">
            <a:avLst>
              <a:gd name="adj" fmla="val 16667"/>
            </a:avLst>
          </a:prstGeom>
          <a:solidFill>
            <a:srgbClr val="783a7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RELIG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Elipse"/>
          <p:cNvSpPr/>
          <p:nvPr/>
        </p:nvSpPr>
        <p:spPr>
          <a:xfrm>
            <a:off x="3571920" y="3071880"/>
            <a:ext cx="2286000" cy="1000080"/>
          </a:xfrm>
          <a:prstGeom prst="ellipse">
            <a:avLst/>
          </a:prstGeom>
          <a:solidFill>
            <a:srgbClr val="6f6f6f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EXPERIENCIA RELIGI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10 Rectángulo redondeado"/>
          <p:cNvSpPr/>
          <p:nvPr/>
        </p:nvSpPr>
        <p:spPr>
          <a:xfrm>
            <a:off x="1785960" y="4929120"/>
            <a:ext cx="1357200" cy="928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11 Rectángulo redondeado"/>
          <p:cNvSpPr/>
          <p:nvPr/>
        </p:nvSpPr>
        <p:spPr>
          <a:xfrm>
            <a:off x="3786120" y="4929120"/>
            <a:ext cx="157176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LUGARES SA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12 Rectángulo redondeado"/>
          <p:cNvSpPr/>
          <p:nvPr/>
        </p:nvSpPr>
        <p:spPr>
          <a:xfrm>
            <a:off x="5500800" y="492912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13 Rectángulo redondeado"/>
          <p:cNvSpPr/>
          <p:nvPr/>
        </p:nvSpPr>
        <p:spPr>
          <a:xfrm>
            <a:off x="7000920" y="4929120"/>
            <a:ext cx="1500120" cy="1143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TIEMPOS SAG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14 Rectángulo redondeado"/>
          <p:cNvSpPr/>
          <p:nvPr/>
        </p:nvSpPr>
        <p:spPr>
          <a:xfrm>
            <a:off x="7000920" y="2643120"/>
            <a:ext cx="1785960" cy="11430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Da elementos y vivencias que dan sentido 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16 Conector recto de flecha"/>
          <p:cNvCxnSpPr/>
          <p:nvPr/>
        </p:nvCxnSpPr>
        <p:spPr>
          <a:xfrm flipH="1">
            <a:off x="4785480" y="1428840"/>
            <a:ext cx="2520" cy="4291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12" name="18 Conector recto de flecha"/>
          <p:cNvCxnSpPr/>
          <p:nvPr/>
        </p:nvCxnSpPr>
        <p:spPr>
          <a:xfrm flipH="1">
            <a:off x="4785480" y="2643120"/>
            <a:ext cx="2520" cy="3578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3" name="20 Conector recto de flecha"/>
          <p:cNvCxnSpPr/>
          <p:nvPr/>
        </p:nvCxnSpPr>
        <p:spPr>
          <a:xfrm flipH="1">
            <a:off x="7929000" y="2071440"/>
            <a:ext cx="1080" cy="5007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4" name="22 Conector recto de flecha"/>
          <p:cNvCxnSpPr/>
          <p:nvPr/>
        </p:nvCxnSpPr>
        <p:spPr>
          <a:xfrm>
            <a:off x="5071680" y="1643040"/>
            <a:ext cx="1143720" cy="21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5" name="25 Conector recto de flecha"/>
          <p:cNvCxnSpPr>
            <a:stCxn id="605" idx="4"/>
          </p:cNvCxnSpPr>
          <p:nvPr/>
        </p:nvCxnSpPr>
        <p:spPr>
          <a:xfrm flipH="1">
            <a:off x="2714400" y="4071600"/>
            <a:ext cx="2000880" cy="78660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6" name="27 Conector recto de flecha"/>
          <p:cNvCxnSpPr/>
          <p:nvPr/>
        </p:nvCxnSpPr>
        <p:spPr>
          <a:xfrm flipH="1">
            <a:off x="4642560" y="4145040"/>
            <a:ext cx="73800" cy="7135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7" name="29 Conector recto de flecha"/>
          <p:cNvCxnSpPr>
            <a:stCxn id="605" idx="4"/>
            <a:endCxn id="608" idx="0"/>
          </p:cNvCxnSpPr>
          <p:nvPr/>
        </p:nvCxnSpPr>
        <p:spPr>
          <a:xfrm>
            <a:off x="4714920" y="4071600"/>
            <a:ext cx="1394640" cy="8578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618" name="32 Conector recto de flecha"/>
          <p:cNvCxnSpPr>
            <a:stCxn id="605" idx="4"/>
            <a:endCxn id="609" idx="0"/>
          </p:cNvCxnSpPr>
          <p:nvPr/>
        </p:nvCxnSpPr>
        <p:spPr>
          <a:xfrm>
            <a:off x="4714920" y="4071600"/>
            <a:ext cx="3037680" cy="8578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619" name="34 Rectángulo redondeado"/>
          <p:cNvSpPr/>
          <p:nvPr/>
        </p:nvSpPr>
        <p:spPr>
          <a:xfrm>
            <a:off x="1214280" y="3286080"/>
            <a:ext cx="2000520" cy="6429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Hech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Gill Sans MT"/>
              </a:rPr>
              <a:t>Suceso - viv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36 Conector recto de flecha"/>
          <p:cNvCxnSpPr>
            <a:stCxn id="605" idx="2"/>
          </p:cNvCxnSpPr>
          <p:nvPr/>
        </p:nvCxnSpPr>
        <p:spPr>
          <a:xfrm flipH="1" flipV="1">
            <a:off x="3285720" y="3571560"/>
            <a:ext cx="286560" cy="21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900" spc="-1" strike="noStrike">
                <a:solidFill>
                  <a:srgbClr val="383c60"/>
                </a:solidFill>
                <a:latin typeface="Gill Sans MT"/>
              </a:rPr>
              <a:t>ACTITUDES FRENTE A LA RELIGIÓN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28400" y="1285560"/>
            <a:ext cx="8358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Gill Sans MT"/>
              </a:rPr>
              <a:t>Religiosa: “Creyente afirma que Dios existe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Acepta la Respuesta que da la Religió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s-BO" sz="3000" spc="-1" strike="noStrike">
                <a:solidFill>
                  <a:srgbClr val="ff0000"/>
                </a:solidFill>
                <a:latin typeface="Gill Sans MT"/>
              </a:rPr>
              <a:t>- </a:t>
            </a:r>
            <a:r>
              <a:rPr b="0" lang="es-BO" sz="3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es-BO" sz="3000" spc="-1" strike="noStrike">
                <a:solidFill>
                  <a:srgbClr val="000000"/>
                </a:solidFill>
                <a:latin typeface="Gill Sans MT"/>
              </a:rPr>
              <a:t>Se relaciona con Di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Atea: “Niega la existencia de Dios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Gill Sans MT"/>
              </a:rPr>
              <a:t>Todo se limita a la información de los sentid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Agnóstica: “No afirma ni niega la existencia de Dios”</a:t>
            </a:r>
            <a:r>
              <a:rPr b="1" lang="es-ES" sz="30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Religión sin respuesta convincen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Hombre imposibilitado de develar el misterio del sentido de la vi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Se abstiene de buscar respues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ill Sans MT"/>
              </a:rPr>
              <a:t>Indiferente (secular): “Despreocupado por él”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Vive sin atender a las preguntas esenci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24640">
              <a:lnSpc>
                <a:spcPct val="80000"/>
              </a:lnSpc>
              <a:spcBef>
                <a:spcPts val="55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90240" indent="-268200">
              <a:lnSpc>
                <a:spcPct val="8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ELEMENTO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5728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DIOS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Divinidad – ser supremo – misterio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espíritu – etc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Realidad Anterior muy superior al hombre – distinto – eterno – sagrad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La persona Religiosa: Se siente cercana a él – intim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Con presencia real indemostrable 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Las Mediaciones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Acciones que realiza la persona religiosa para ponerse en contacto – presencia con dios – lo divino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ELEMENTOS ….. (cont. 1)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43120" y="1642680"/>
            <a:ext cx="8300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Las mediaciones…. (continuación)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Lugares sagra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Ceremonias – rit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Moral (mandatos dados por la divinida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Mitos religios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Silencio – Meditació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Fenómenos Naturales en los que lo encuent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Acontecimientos de la vida en los que lo experime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ELEMENTOS … (cont. 2)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42640" y="2000160"/>
            <a:ext cx="7729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ACTITUD RELIGIOSA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Se manifiesta e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Aceptar a Dios – relacionarse con É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Aceptar – Reconocer a Dios que llama – atrae – acompaña - 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Organiza la vida desde É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383c60"/>
                </a:solidFill>
                <a:latin typeface="Gill Sans MT"/>
              </a:rPr>
              <a:t>Mito – Magia – Superstición  - Idolatría 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5728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Mito Religioso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Relato en el que aparece”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Dios – los hombres – la natural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Como respuesta a preguntas religios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 algn="just"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Magia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Conjunto de actos cuya intención es dominar las fuerzas ocultas o divinas para beneficio propio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El mago “somete los poderes superiores y los hace instrumento en sus man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1800" indent="-20520" algn="just"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8077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Mito – Magia … (Continuación)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57280" y="1285560"/>
            <a:ext cx="8300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6040" indent="-19800" algn="just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Superstición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Creer en algo superior el qu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Puede favorecerl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Puede castigarl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6040" indent="-19800" algn="just">
              <a:lnSpc>
                <a:spcPct val="90000"/>
              </a:lnSpc>
              <a:spcBef>
                <a:spcPts val="601"/>
              </a:spcBef>
              <a:buClr>
                <a:srgbClr val="53548a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Gill Sans MT"/>
              </a:rPr>
              <a:t>Idolatría: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“Considera Dios a aquello que 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BO" sz="3200" spc="-1" strike="noStrike">
                <a:solidFill>
                  <a:srgbClr val="000000"/>
                </a:solidFill>
                <a:latin typeface="Gill Sans MT"/>
              </a:rPr>
              <a:t>no lo es”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Personas – Seres inmanentes –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800" spc="-1" strike="noStrike">
                <a:solidFill>
                  <a:srgbClr val="000000"/>
                </a:solidFill>
                <a:latin typeface="Gill Sans MT"/>
              </a:rPr>
              <a:t>Frente a él se imponen las relaciones d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591120" indent="-19800" algn="just">
              <a:lnSpc>
                <a:spcPct val="90000"/>
              </a:lnSpc>
              <a:spcBef>
                <a:spcPts val="649"/>
              </a:spcBef>
              <a:buClr>
                <a:srgbClr val="438086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Someti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591120" indent="-19800" algn="just">
              <a:lnSpc>
                <a:spcPct val="90000"/>
              </a:lnSpc>
              <a:spcBef>
                <a:spcPts val="649"/>
              </a:spcBef>
              <a:buClr>
                <a:srgbClr val="438086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Depend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591120" indent="-19800" algn="just">
              <a:lnSpc>
                <a:spcPct val="90000"/>
              </a:lnSpc>
              <a:spcBef>
                <a:spcPts val="649"/>
              </a:spcBef>
              <a:buClr>
                <a:srgbClr val="438086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BO" sz="2600" spc="-1" strike="noStrike">
                <a:solidFill>
                  <a:srgbClr val="000000"/>
                </a:solidFill>
                <a:latin typeface="Gill Sans MT"/>
              </a:rPr>
              <a:t>Pseudo Adora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350640" indent="-19800" algn="just">
              <a:lnSpc>
                <a:spcPct val="90000"/>
              </a:lnSpc>
              <a:spcBef>
                <a:spcPts val="550"/>
              </a:spcBef>
              <a:buClr>
                <a:srgbClr val="53548a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83c60"/>
                </a:solidFill>
                <a:latin typeface="Gill Sans MT"/>
              </a:rPr>
              <a:t>LAS GRANDES PREGUNTAS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57120" y="1715760"/>
            <a:ext cx="84297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20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La religión se centra en las grandes cuestiones  que preocupan al ser hum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La creación del mundo y del ser hum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El significado de la vida y de la muer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El comportamiento ético y la felicidad pers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8920" indent="-2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5" name="3 Imagen" descr="universo.jpeg"/>
          <p:cNvPicPr/>
          <p:nvPr/>
        </p:nvPicPr>
        <p:blipFill>
          <a:blip r:embed="rId1"/>
          <a:stretch/>
        </p:blipFill>
        <p:spPr>
          <a:xfrm>
            <a:off x="3286080" y="4714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6" name="4 Imagen" descr="miguel angel.jpeg"/>
          <p:cNvPicPr/>
          <p:nvPr/>
        </p:nvPicPr>
        <p:blipFill>
          <a:blip r:embed="rId2"/>
          <a:stretch/>
        </p:blipFill>
        <p:spPr>
          <a:xfrm>
            <a:off x="6143760" y="4786200"/>
            <a:ext cx="2685960" cy="1695600"/>
          </a:xfrm>
          <a:prstGeom prst="rect">
            <a:avLst/>
          </a:prstGeom>
          <a:ln w="0">
            <a:noFill/>
          </a:ln>
        </p:spPr>
      </p:pic>
      <p:pic>
        <p:nvPicPr>
          <p:cNvPr id="637" name="5 Imagen" descr="creacion egipcia.jpeg"/>
          <p:cNvPicPr/>
          <p:nvPr/>
        </p:nvPicPr>
        <p:blipFill>
          <a:blip r:embed="rId3"/>
          <a:stretch/>
        </p:blipFill>
        <p:spPr>
          <a:xfrm>
            <a:off x="571680" y="4857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68360" y="476280"/>
            <a:ext cx="8207280" cy="1152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UNIVERSALIDAD DEL FENOMENO RELIG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Line 5" descr=""/>
          <p:cNvPicPr/>
          <p:nvPr/>
        </p:nvPicPr>
        <p:blipFill>
          <a:blip r:embed="rId1"/>
          <a:stretch/>
        </p:blipFill>
        <p:spPr>
          <a:xfrm>
            <a:off x="817560" y="1573200"/>
            <a:ext cx="676440" cy="2827440"/>
          </a:xfrm>
          <a:prstGeom prst="rect">
            <a:avLst/>
          </a:prstGeom>
          <a:ln w="0">
            <a:noFill/>
          </a:ln>
        </p:spPr>
      </p:pic>
      <p:grpSp>
        <p:nvGrpSpPr>
          <p:cNvPr id="368" name="Rectangle 6"/>
          <p:cNvGrpSpPr/>
          <p:nvPr/>
        </p:nvGrpSpPr>
        <p:grpSpPr>
          <a:xfrm>
            <a:off x="165240" y="4280040"/>
            <a:ext cx="3200400" cy="749160"/>
            <a:chOff x="165240" y="4280040"/>
            <a:chExt cx="3200400" cy="749160"/>
          </a:xfrm>
        </p:grpSpPr>
        <p:pic>
          <p:nvPicPr>
            <p:cNvPr id="369" name="Rectangle 6" descr=""/>
            <p:cNvPicPr/>
            <p:nvPr/>
          </p:nvPicPr>
          <p:blipFill>
            <a:blip r:embed="rId2"/>
            <a:stretch/>
          </p:blipFill>
          <p:spPr>
            <a:xfrm>
              <a:off x="165240" y="4280040"/>
              <a:ext cx="3200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79280" y="4292640"/>
              <a:ext cx="3168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TREMO OR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Line 7" descr=""/>
          <p:cNvPicPr/>
          <p:nvPr/>
        </p:nvPicPr>
        <p:blipFill>
          <a:blip r:embed="rId3"/>
          <a:stretch/>
        </p:blipFill>
        <p:spPr>
          <a:xfrm>
            <a:off x="2139840" y="1573200"/>
            <a:ext cx="304920" cy="1608120"/>
          </a:xfrm>
          <a:prstGeom prst="rect">
            <a:avLst/>
          </a:prstGeom>
          <a:ln w="0">
            <a:noFill/>
          </a:ln>
        </p:spPr>
      </p:pic>
      <p:grpSp>
        <p:nvGrpSpPr>
          <p:cNvPr id="372" name="Rectangle 8"/>
          <p:cNvGrpSpPr/>
          <p:nvPr/>
        </p:nvGrpSpPr>
        <p:grpSpPr>
          <a:xfrm>
            <a:off x="1603440" y="2981160"/>
            <a:ext cx="2913120" cy="822600"/>
            <a:chOff x="1603440" y="2981160"/>
            <a:chExt cx="2913120" cy="822600"/>
          </a:xfrm>
        </p:grpSpPr>
        <p:pic>
          <p:nvPicPr>
            <p:cNvPr id="373" name="Rectangle 8" descr=""/>
            <p:cNvPicPr/>
            <p:nvPr/>
          </p:nvPicPr>
          <p:blipFill>
            <a:blip r:embed="rId4"/>
            <a:stretch/>
          </p:blipFill>
          <p:spPr>
            <a:xfrm>
              <a:off x="1603440" y="2981160"/>
              <a:ext cx="291312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619280" y="2997360"/>
              <a:ext cx="2881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ENTE PRÓXI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Line 9" descr=""/>
          <p:cNvPicPr/>
          <p:nvPr/>
        </p:nvPicPr>
        <p:blipFill>
          <a:blip r:embed="rId5"/>
          <a:stretch/>
        </p:blipFill>
        <p:spPr>
          <a:xfrm>
            <a:off x="4084560" y="1573200"/>
            <a:ext cx="304920" cy="3621240"/>
          </a:xfrm>
          <a:prstGeom prst="rect">
            <a:avLst/>
          </a:prstGeom>
          <a:ln w="0">
            <a:noFill/>
          </a:ln>
        </p:spPr>
      </p:pic>
      <p:grpSp>
        <p:nvGrpSpPr>
          <p:cNvPr id="376" name="Rectangle 11"/>
          <p:cNvGrpSpPr/>
          <p:nvPr/>
        </p:nvGrpSpPr>
        <p:grpSpPr>
          <a:xfrm>
            <a:off x="3767040" y="5072040"/>
            <a:ext cx="2043360" cy="676440"/>
            <a:chOff x="3767040" y="5072040"/>
            <a:chExt cx="2043360" cy="676440"/>
          </a:xfrm>
        </p:grpSpPr>
        <p:pic>
          <p:nvPicPr>
            <p:cNvPr id="377" name="Rectangle 11" descr=""/>
            <p:cNvPicPr/>
            <p:nvPr/>
          </p:nvPicPr>
          <p:blipFill>
            <a:blip r:embed="rId6"/>
            <a:stretch/>
          </p:blipFill>
          <p:spPr>
            <a:xfrm>
              <a:off x="3767040" y="5072040"/>
              <a:ext cx="20433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780000" y="5084640"/>
              <a:ext cx="201600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URO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Line 13" descr=""/>
          <p:cNvPicPr/>
          <p:nvPr/>
        </p:nvPicPr>
        <p:blipFill>
          <a:blip r:embed="rId7"/>
          <a:stretch/>
        </p:blipFill>
        <p:spPr>
          <a:xfrm>
            <a:off x="5456160" y="1573200"/>
            <a:ext cx="304920" cy="1316160"/>
          </a:xfrm>
          <a:prstGeom prst="rect">
            <a:avLst/>
          </a:prstGeom>
          <a:ln w="0">
            <a:noFill/>
          </a:ln>
        </p:spPr>
      </p:pic>
      <p:grpSp>
        <p:nvGrpSpPr>
          <p:cNvPr id="380" name="Rectangle 14"/>
          <p:cNvGrpSpPr/>
          <p:nvPr/>
        </p:nvGrpSpPr>
        <p:grpSpPr>
          <a:xfrm>
            <a:off x="5492880" y="2766960"/>
            <a:ext cx="1614240" cy="677880"/>
            <a:chOff x="5492880" y="2766960"/>
            <a:chExt cx="1614240" cy="677880"/>
          </a:xfrm>
        </p:grpSpPr>
        <p:pic>
          <p:nvPicPr>
            <p:cNvPr id="381" name="Rectangle 14" descr=""/>
            <p:cNvPicPr/>
            <p:nvPr/>
          </p:nvPicPr>
          <p:blipFill>
            <a:blip r:embed="rId8"/>
            <a:stretch/>
          </p:blipFill>
          <p:spPr>
            <a:xfrm>
              <a:off x="5492880" y="2766960"/>
              <a:ext cx="161424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508720" y="2781360"/>
              <a:ext cx="1584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F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Line 15" descr=""/>
          <p:cNvPicPr/>
          <p:nvPr/>
        </p:nvPicPr>
        <p:blipFill>
          <a:blip r:embed="rId9"/>
          <a:stretch/>
        </p:blipFill>
        <p:spPr>
          <a:xfrm>
            <a:off x="7327800" y="1573200"/>
            <a:ext cx="304920" cy="2827440"/>
          </a:xfrm>
          <a:prstGeom prst="rect">
            <a:avLst/>
          </a:prstGeom>
          <a:ln w="0">
            <a:noFill/>
          </a:ln>
        </p:spPr>
      </p:pic>
      <p:grpSp>
        <p:nvGrpSpPr>
          <p:cNvPr id="384" name="Rectangle 16"/>
          <p:cNvGrpSpPr/>
          <p:nvPr/>
        </p:nvGrpSpPr>
        <p:grpSpPr>
          <a:xfrm>
            <a:off x="6931080" y="4352760"/>
            <a:ext cx="1974960" cy="676440"/>
            <a:chOff x="6931080" y="4352760"/>
            <a:chExt cx="1974960" cy="676440"/>
          </a:xfrm>
        </p:grpSpPr>
        <p:pic>
          <p:nvPicPr>
            <p:cNvPr id="385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31080" y="4352760"/>
              <a:ext cx="19749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6948360" y="4365720"/>
              <a:ext cx="1944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É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383c60"/>
                </a:solidFill>
                <a:latin typeface="Gill Sans MT"/>
              </a:rPr>
              <a:t>ELEMENTOS A TRABAJAR EN LAS RELIGONES </a:t>
            </a:r>
            <a:endParaRPr b="0" lang="en-US" sz="39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28400" y="1213920"/>
            <a:ext cx="8429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Ubicación.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Geográfica e histór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Dios.</a:t>
            </a: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uál la imagen que se tiene de él (uno – varios – inmanente – trascendente ….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Mediaciones.</a:t>
            </a:r>
            <a:r>
              <a:rPr b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itos religiosos – Ritos – Vida de Oración – Moral – Libros Sagrado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1" lang="es-ES" sz="3200" spc="-1" strike="noStrike">
                <a:solidFill>
                  <a:srgbClr val="ff0000"/>
                </a:solidFill>
                <a:latin typeface="Gill Sans MT"/>
              </a:rPr>
              <a:t>Estructura de la religión.</a:t>
            </a:r>
            <a:r>
              <a:rPr b="1" lang="es-E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acerdocio – Grupos sociales – política – Profetas – etc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Trabajo de consulta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920"/>
            <a:ext cx="7499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Organizarse en 5 grup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1: HINDU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2: BUD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3: JUDA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4: CRISTIAN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Grupo 5: ISLAMISM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1.trabajo escrito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2. ppt para presentar al grupo en 6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37304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Fechas:9o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Trabajo en clase: mayo 10 primera revisiò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trega de trabajo y exposición: mayo 18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304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Fechas:9b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Trabajo en clase: mayo 11 primera revisiò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trega de trabajo y exposición: mayo 19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7304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f4259"/>
                </a:solidFill>
                <a:latin typeface="Gill Sans MT"/>
              </a:rPr>
              <a:t>Fechas:9C, 9R, 9G</a:t>
            </a:r>
            <a:endParaRPr b="0" lang="en-US" sz="4300" spc="-1" strike="noStrike">
              <a:solidFill>
                <a:srgbClr val="3f4259"/>
              </a:solidFill>
              <a:latin typeface="Gill Sans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Trabajo en clase: mayo 12 primera revisiò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Entrega de trabajo y exposición: mayo 2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15"/>
          <p:cNvSpPr/>
          <p:nvPr/>
        </p:nvSpPr>
        <p:spPr>
          <a:xfrm>
            <a:off x="250920" y="2708280"/>
            <a:ext cx="3313080" cy="9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O OR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3851280" y="1201680"/>
            <a:ext cx="4751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s y antiguas civil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7"/>
          <p:cNvSpPr/>
          <p:nvPr/>
        </p:nvSpPr>
        <p:spPr>
          <a:xfrm>
            <a:off x="3851280" y="2421000"/>
            <a:ext cx="136836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8"/>
          <p:cNvSpPr/>
          <p:nvPr/>
        </p:nvSpPr>
        <p:spPr>
          <a:xfrm>
            <a:off x="5435640" y="2421000"/>
            <a:ext cx="1512720" cy="720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9"/>
          <p:cNvSpPr/>
          <p:nvPr/>
        </p:nvSpPr>
        <p:spPr>
          <a:xfrm>
            <a:off x="7236000" y="2421000"/>
            <a:ext cx="151272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4"/>
          <p:cNvSpPr/>
          <p:nvPr/>
        </p:nvSpPr>
        <p:spPr>
          <a:xfrm>
            <a:off x="3492360" y="3933720"/>
            <a:ext cx="525780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 dado forma a la vida y la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sos pueb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5"/>
          <p:cNvSpPr/>
          <p:nvPr/>
        </p:nvSpPr>
        <p:spPr>
          <a:xfrm>
            <a:off x="0" y="5373720"/>
            <a:ext cx="2736720" cy="863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INDU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26"/>
          <p:cNvSpPr/>
          <p:nvPr/>
        </p:nvSpPr>
        <p:spPr>
          <a:xfrm>
            <a:off x="2916360" y="5300640"/>
            <a:ext cx="2663640" cy="9349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BU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7"/>
          <p:cNvSpPr/>
          <p:nvPr/>
        </p:nvSpPr>
        <p:spPr>
          <a:xfrm>
            <a:off x="5796000" y="5300640"/>
            <a:ext cx="3348000" cy="9349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FUCI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9"/>
          <p:cNvSpPr/>
          <p:nvPr/>
        </p:nvSpPr>
        <p:spPr>
          <a:xfrm flipH="1">
            <a:off x="4858920" y="1916280"/>
            <a:ext cx="108108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0"/>
          <p:cNvSpPr/>
          <p:nvPr/>
        </p:nvSpPr>
        <p:spPr>
          <a:xfrm>
            <a:off x="5940360" y="19162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1"/>
          <p:cNvSpPr/>
          <p:nvPr/>
        </p:nvSpPr>
        <p:spPr>
          <a:xfrm>
            <a:off x="5940360" y="1916280"/>
            <a:ext cx="165600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 flipH="1">
            <a:off x="2484000" y="4724280"/>
            <a:ext cx="287964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4"/>
          <p:cNvSpPr/>
          <p:nvPr/>
        </p:nvSpPr>
        <p:spPr>
          <a:xfrm flipH="1">
            <a:off x="5003280" y="4724280"/>
            <a:ext cx="360360" cy="649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>
            <a:off x="5364000" y="4724280"/>
            <a:ext cx="1079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7"/>
          <p:cNvSpPr/>
          <p:nvPr/>
        </p:nvSpPr>
        <p:spPr>
          <a:xfrm flipV="1">
            <a:off x="3203640" y="1915920"/>
            <a:ext cx="792000" cy="93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8"/>
          <p:cNvSpPr/>
          <p:nvPr/>
        </p:nvSpPr>
        <p:spPr>
          <a:xfrm>
            <a:off x="3276720" y="3429000"/>
            <a:ext cx="790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Oval 4"/>
          <p:cNvSpPr/>
          <p:nvPr/>
        </p:nvSpPr>
        <p:spPr>
          <a:xfrm>
            <a:off x="395280" y="907920"/>
            <a:ext cx="3889440" cy="100836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E 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4932360" y="476280"/>
            <a:ext cx="3960720" cy="720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na de grandes relig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5003640" y="1557360"/>
            <a:ext cx="3889440" cy="13669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ligión judía se remo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ño 2000 a.C., co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ción de Abrah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"/>
          <p:cNvSpPr/>
          <p:nvPr/>
        </p:nvSpPr>
        <p:spPr>
          <a:xfrm>
            <a:off x="684360" y="2924280"/>
            <a:ext cx="3311280" cy="86508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Judaí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84360" y="4221000"/>
            <a:ext cx="4679640" cy="1079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 una teocracia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l factor religioso es la raí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aspec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"/>
          <p:cNvSpPr/>
          <p:nvPr/>
        </p:nvSpPr>
        <p:spPr>
          <a:xfrm>
            <a:off x="6012000" y="3213000"/>
            <a:ext cx="2592360" cy="647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6084720" y="4076640"/>
            <a:ext cx="2735280" cy="576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1"/>
          <p:cNvSpPr/>
          <p:nvPr/>
        </p:nvSpPr>
        <p:spPr>
          <a:xfrm>
            <a:off x="6084720" y="5013360"/>
            <a:ext cx="2880000" cy="647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395280" y="6021360"/>
            <a:ext cx="8424720" cy="64764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rá el islamismo, fundado por Mahoma en el S. VII d.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4"/>
          <p:cNvSpPr/>
          <p:nvPr/>
        </p:nvSpPr>
        <p:spPr>
          <a:xfrm flipV="1">
            <a:off x="4140360" y="836280"/>
            <a:ext cx="792000" cy="36036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5"/>
          <p:cNvSpPr/>
          <p:nvPr/>
        </p:nvSpPr>
        <p:spPr>
          <a:xfrm>
            <a:off x="4211640" y="1557360"/>
            <a:ext cx="792000" cy="57636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6"/>
          <p:cNvSpPr/>
          <p:nvPr/>
        </p:nvSpPr>
        <p:spPr>
          <a:xfrm>
            <a:off x="2340000" y="1916280"/>
            <a:ext cx="0" cy="100800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2340000" y="3789360"/>
            <a:ext cx="0" cy="43164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"/>
          <p:cNvSpPr/>
          <p:nvPr/>
        </p:nvSpPr>
        <p:spPr>
          <a:xfrm flipV="1">
            <a:off x="5364000" y="3716280"/>
            <a:ext cx="792360" cy="100800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9"/>
          <p:cNvSpPr/>
          <p:nvPr/>
        </p:nvSpPr>
        <p:spPr>
          <a:xfrm flipV="1">
            <a:off x="5364000" y="4437000"/>
            <a:ext cx="792360" cy="28728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0"/>
          <p:cNvSpPr/>
          <p:nvPr/>
        </p:nvSpPr>
        <p:spPr>
          <a:xfrm>
            <a:off x="5364000" y="4724280"/>
            <a:ext cx="792360" cy="505080"/>
          </a:xfrm>
          <a:prstGeom prst="line">
            <a:avLst/>
          </a:prstGeom>
          <a:ln w="381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Oval 4"/>
          <p:cNvSpPr/>
          <p:nvPr/>
        </p:nvSpPr>
        <p:spPr>
          <a:xfrm>
            <a:off x="539640" y="692280"/>
            <a:ext cx="3024360" cy="1152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4067280" y="549360"/>
            <a:ext cx="453708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ue unificando cultur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cias al fenómeno religi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ristian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Organization Chart 10"/>
          <p:cNvGrpSpPr/>
          <p:nvPr/>
        </p:nvGrpSpPr>
        <p:grpSpPr>
          <a:xfrm>
            <a:off x="539640" y="1698480"/>
            <a:ext cx="6821280" cy="2993760"/>
            <a:chOff x="539640" y="1698480"/>
            <a:chExt cx="6821280" cy="2993760"/>
          </a:xfrm>
        </p:grpSpPr>
        <p:cxnSp>
          <p:nvCxnSpPr>
            <p:cNvPr id="423" name="_s1028"/>
            <p:cNvCxnSpPr>
              <a:stCxn id="424" idx="0"/>
              <a:endCxn id="425" idx="2"/>
            </p:cNvCxnSpPr>
            <p:nvPr/>
          </p:nvCxnSpPr>
          <p:spPr>
            <a:xfrm flipV="1">
              <a:off x="6301800" y="3475800"/>
              <a:ext cx="2160" cy="25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6" name="_s1029"/>
            <p:cNvCxnSpPr>
              <a:stCxn id="427" idx="0"/>
              <a:endCxn id="428" idx="2"/>
            </p:cNvCxnSpPr>
            <p:nvPr/>
          </p:nvCxnSpPr>
          <p:spPr>
            <a:xfrm flipV="1" rot="16200000">
              <a:off x="3824640" y="3600000"/>
              <a:ext cx="2509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9" name="_s1030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1472040" y="3600000"/>
              <a:ext cx="2509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_s1031"/>
            <p:cNvCxnSpPr>
              <a:stCxn id="425" idx="0"/>
              <a:endCxn id="433" idx="2"/>
            </p:cNvCxnSpPr>
            <p:nvPr/>
          </p:nvCxnSpPr>
          <p:spPr>
            <a:xfrm flipV="1" rot="16200000">
              <a:off x="4999680" y="1176840"/>
              <a:ext cx="250920" cy="2352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4" name="_s1032"/>
            <p:cNvCxnSpPr>
              <a:stCxn id="428" idx="0"/>
              <a:endCxn id="433" idx="2"/>
            </p:cNvCxnSpPr>
            <p:nvPr/>
          </p:nvCxnSpPr>
          <p:spPr>
            <a:xfrm flipV="1">
              <a:off x="3949560" y="2227680"/>
              <a:ext cx="2160" cy="250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_s1033"/>
            <p:cNvCxnSpPr>
              <a:stCxn id="431" idx="0"/>
              <a:endCxn id="433" idx="2"/>
            </p:cNvCxnSpPr>
            <p:nvPr/>
          </p:nvCxnSpPr>
          <p:spPr>
            <a:xfrm flipH="1" flipV="1" rot="5400000">
              <a:off x="2647800" y="1176840"/>
              <a:ext cx="250920" cy="2352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3" name="_s1034"/>
            <p:cNvSpPr/>
            <p:nvPr/>
          </p:nvSpPr>
          <p:spPr>
            <a:xfrm>
              <a:off x="3244320" y="1698480"/>
              <a:ext cx="1410120" cy="529200"/>
            </a:xfrm>
            <a:prstGeom prst="roundRect">
              <a:avLst>
                <a:gd name="adj" fmla="val 16667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5"/>
            <p:cNvSpPr/>
            <p:nvPr/>
          </p:nvSpPr>
          <p:spPr>
            <a:xfrm>
              <a:off x="782640" y="2478240"/>
              <a:ext cx="1629000" cy="99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lit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36"/>
            <p:cNvSpPr/>
            <p:nvPr/>
          </p:nvSpPr>
          <p:spPr>
            <a:xfrm>
              <a:off x="3134880" y="2478240"/>
              <a:ext cx="1629000" cy="99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mús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7"/>
            <p:cNvSpPr/>
            <p:nvPr/>
          </p:nvSpPr>
          <p:spPr>
            <a:xfrm>
              <a:off x="5487120" y="2478240"/>
              <a:ext cx="1628640" cy="99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240" rIns="48240" tIns="24120" bIns="24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pintu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8"/>
            <p:cNvSpPr/>
            <p:nvPr/>
          </p:nvSpPr>
          <p:spPr>
            <a:xfrm>
              <a:off x="539640" y="3726360"/>
              <a:ext cx="2116800" cy="9658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escultur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39"/>
            <p:cNvSpPr/>
            <p:nvPr/>
          </p:nvSpPr>
          <p:spPr>
            <a:xfrm>
              <a:off x="2891520" y="3726360"/>
              <a:ext cx="2116800" cy="9658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basíl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40"/>
            <p:cNvSpPr/>
            <p:nvPr/>
          </p:nvSpPr>
          <p:spPr>
            <a:xfrm>
              <a:off x="5243760" y="3726360"/>
              <a:ext cx="2117160" cy="96588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s cated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27"/>
          <p:cNvSpPr/>
          <p:nvPr/>
        </p:nvSpPr>
        <p:spPr>
          <a:xfrm>
            <a:off x="179280" y="5300640"/>
            <a:ext cx="2664000" cy="57636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3276720" y="5229360"/>
            <a:ext cx="5688000" cy="1295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stumbres, el calendar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iestas, etc., nacen y se desarrol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orno al culto crist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0"/>
          <p:cNvSpPr/>
          <p:nvPr/>
        </p:nvSpPr>
        <p:spPr>
          <a:xfrm>
            <a:off x="2843280" y="5589720"/>
            <a:ext cx="433440" cy="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Organization Chart 5"/>
          <p:cNvGrpSpPr/>
          <p:nvPr/>
        </p:nvGrpSpPr>
        <p:grpSpPr>
          <a:xfrm>
            <a:off x="0" y="404640"/>
            <a:ext cx="9143280" cy="6453000"/>
            <a:chOff x="0" y="404640"/>
            <a:chExt cx="9143280" cy="6453000"/>
          </a:xfrm>
        </p:grpSpPr>
        <p:cxnSp>
          <p:nvCxnSpPr>
            <p:cNvPr id="440" name="_s2052"/>
            <p:cNvCxnSpPr>
              <a:stCxn id="441" idx="1"/>
              <a:endCxn id="442" idx="2"/>
            </p:cNvCxnSpPr>
            <p:nvPr/>
          </p:nvCxnSpPr>
          <p:spPr>
            <a:xfrm rot="10800000">
              <a:off x="2660400" y="3955320"/>
              <a:ext cx="430200" cy="232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3" name="_s2053"/>
            <p:cNvCxnSpPr>
              <a:stCxn id="444" idx="1"/>
              <a:endCxn id="442" idx="2"/>
            </p:cNvCxnSpPr>
            <p:nvPr/>
          </p:nvCxnSpPr>
          <p:spPr>
            <a:xfrm rot="10800000">
              <a:off x="2660400" y="3955320"/>
              <a:ext cx="430200" cy="87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5" name="_s2054"/>
            <p:cNvCxnSpPr>
              <a:stCxn id="442" idx="0"/>
              <a:endCxn id="446" idx="2"/>
            </p:cNvCxnSpPr>
            <p:nvPr/>
          </p:nvCxnSpPr>
          <p:spPr>
            <a:xfrm flipH="1" flipV="1" rot="5400000">
              <a:off x="3510360" y="1138320"/>
              <a:ext cx="291600" cy="199080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7" name="_s2055"/>
            <p:cNvCxnSpPr>
              <a:stCxn id="446" idx="0"/>
              <a:endCxn id="448" idx="2"/>
            </p:cNvCxnSpPr>
            <p:nvPr/>
          </p:nvCxnSpPr>
          <p:spPr>
            <a:xfrm flipV="1" rot="16200000">
              <a:off x="4464720" y="1155240"/>
              <a:ext cx="291600" cy="81360"/>
            </a:xfrm>
            <a:prstGeom prst="bentConnector3">
              <a:avLst>
                <a:gd name="adj1" fmla="val 499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8" name="_s2056"/>
            <p:cNvSpPr/>
            <p:nvPr/>
          </p:nvSpPr>
          <p:spPr>
            <a:xfrm>
              <a:off x="3271320" y="404640"/>
              <a:ext cx="2597760" cy="64620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F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2057"/>
            <p:cNvSpPr/>
            <p:nvPr/>
          </p:nvSpPr>
          <p:spPr>
            <a:xfrm>
              <a:off x="3090600" y="1341720"/>
              <a:ext cx="3121200" cy="646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elig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2058"/>
            <p:cNvSpPr/>
            <p:nvPr/>
          </p:nvSpPr>
          <p:spPr>
            <a:xfrm>
              <a:off x="0" y="2279160"/>
              <a:ext cx="5319000" cy="167688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mento es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integrador 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últiples etni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2059"/>
            <p:cNvSpPr/>
            <p:nvPr/>
          </p:nvSpPr>
          <p:spPr>
            <a:xfrm>
              <a:off x="3090600" y="4246920"/>
              <a:ext cx="6052680" cy="115956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staca 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lto a los dio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2060"/>
            <p:cNvSpPr/>
            <p:nvPr/>
          </p:nvSpPr>
          <p:spPr>
            <a:xfrm>
              <a:off x="3090600" y="5697720"/>
              <a:ext cx="6052680" cy="1159920"/>
            </a:xfrm>
            <a:prstGeom prst="roundRect">
              <a:avLst>
                <a:gd name="adj" fmla="val 16667"/>
              </a:avLst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encia en una v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ás allá de la muer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21"/>
          <p:cNvSpPr/>
          <p:nvPr/>
        </p:nvSpPr>
        <p:spPr>
          <a:xfrm>
            <a:off x="324000" y="4618080"/>
            <a:ext cx="2519280" cy="1595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manifiesta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versidad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en 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s dif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AutoShape 23"/>
          <p:cNvGrpSpPr/>
          <p:nvPr/>
        </p:nvGrpSpPr>
        <p:grpSpPr>
          <a:xfrm>
            <a:off x="2895480" y="5187960"/>
            <a:ext cx="542880" cy="511200"/>
            <a:chOff x="2895480" y="5187960"/>
            <a:chExt cx="542880" cy="511200"/>
          </a:xfrm>
        </p:grpSpPr>
        <p:pic>
          <p:nvPicPr>
            <p:cNvPr id="451" name="AutoShape 23" descr=""/>
            <p:cNvPicPr/>
            <p:nvPr/>
          </p:nvPicPr>
          <p:blipFill>
            <a:blip r:embed="rId1"/>
            <a:stretch/>
          </p:blipFill>
          <p:spPr>
            <a:xfrm>
              <a:off x="2895480" y="5187960"/>
              <a:ext cx="54288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979720" y="5337000"/>
              <a:ext cx="4399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16" descr="http://1.bp.blogspot.com/_51HS79Tv-XA/SwfviC_TjVI/AAAAAAAACL4/Dn5f-JdIpU0/s1600/1.jpg"/>
          <p:cNvPicPr/>
          <p:nvPr/>
        </p:nvPicPr>
        <p:blipFill>
          <a:blip r:embed="rId2"/>
          <a:stretch/>
        </p:blipFill>
        <p:spPr>
          <a:xfrm>
            <a:off x="5508720" y="1116000"/>
            <a:ext cx="31320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4"/>
          <p:cNvSpPr/>
          <p:nvPr/>
        </p:nvSpPr>
        <p:spPr>
          <a:xfrm>
            <a:off x="468360" y="765000"/>
            <a:ext cx="3382920" cy="115128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5"/>
          <p:cNvGrpSpPr/>
          <p:nvPr/>
        </p:nvGrpSpPr>
        <p:grpSpPr>
          <a:xfrm>
            <a:off x="5108400" y="506520"/>
            <a:ext cx="3681720" cy="2382840"/>
            <a:chOff x="5108400" y="506520"/>
            <a:chExt cx="3681720" cy="2382840"/>
          </a:xfrm>
        </p:grpSpPr>
        <p:pic>
          <p:nvPicPr>
            <p:cNvPr id="456" name="Rectangle 5" descr=""/>
            <p:cNvPicPr/>
            <p:nvPr/>
          </p:nvPicPr>
          <p:blipFill>
            <a:blip r:embed="rId1"/>
            <a:stretch/>
          </p:blipFill>
          <p:spPr>
            <a:xfrm>
              <a:off x="5108400" y="506520"/>
              <a:ext cx="368172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11640" y="511200"/>
              <a:ext cx="367200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quistadores españo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 encontraron con práct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ligiosas que configurab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cultura y la conviv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cial de los pueblos azteca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ya e inca, etc.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Rectangle 6"/>
          <p:cNvGrpSpPr/>
          <p:nvPr/>
        </p:nvGrpSpPr>
        <p:grpSpPr>
          <a:xfrm>
            <a:off x="3200400" y="3352680"/>
            <a:ext cx="5626080" cy="804960"/>
            <a:chOff x="3200400" y="3352680"/>
            <a:chExt cx="5626080" cy="804960"/>
          </a:xfrm>
        </p:grpSpPr>
        <p:pic>
          <p:nvPicPr>
            <p:cNvPr id="459" name="Rectangle 6" descr=""/>
            <p:cNvPicPr/>
            <p:nvPr/>
          </p:nvPicPr>
          <p:blipFill>
            <a:blip r:embed="rId2"/>
            <a:stretch/>
          </p:blipFill>
          <p:spPr>
            <a:xfrm>
              <a:off x="3200400" y="3352680"/>
              <a:ext cx="562608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3203640" y="3357720"/>
              <a:ext cx="56163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resiones religiosa aberrant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acrificios human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Rectangle 7"/>
          <p:cNvGrpSpPr/>
          <p:nvPr/>
        </p:nvGrpSpPr>
        <p:grpSpPr>
          <a:xfrm>
            <a:off x="317520" y="4286160"/>
            <a:ext cx="3754440" cy="876240"/>
            <a:chOff x="317520" y="4286160"/>
            <a:chExt cx="3754440" cy="876240"/>
          </a:xfrm>
        </p:grpSpPr>
        <p:pic>
          <p:nvPicPr>
            <p:cNvPr id="462" name="Rectangle 7" descr=""/>
            <p:cNvPicPr/>
            <p:nvPr/>
          </p:nvPicPr>
          <p:blipFill>
            <a:blip r:embed="rId3"/>
            <a:stretch/>
          </p:blipFill>
          <p:spPr>
            <a:xfrm>
              <a:off x="317520" y="4286160"/>
              <a:ext cx="375444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4000" y="4292640"/>
              <a:ext cx="37432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junto de s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ifestaciones artísticas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8"/>
          <p:cNvSpPr/>
          <p:nvPr/>
        </p:nvSpPr>
        <p:spPr>
          <a:xfrm>
            <a:off x="971640" y="5445000"/>
            <a:ext cx="3960720" cy="432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umentos arque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971640" y="6165720"/>
            <a:ext cx="3744720" cy="503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4048200" y="1238400"/>
            <a:ext cx="834840" cy="493560"/>
            <a:chOff x="4048200" y="1238400"/>
            <a:chExt cx="834840" cy="493560"/>
          </a:xfrm>
        </p:grpSpPr>
        <p:pic>
          <p:nvPicPr>
            <p:cNvPr id="467" name="AutoShape 11" descr=""/>
            <p:cNvPicPr/>
            <p:nvPr/>
          </p:nvPicPr>
          <p:blipFill>
            <a:blip r:embed="rId4"/>
            <a:stretch/>
          </p:blipFill>
          <p:spPr>
            <a:xfrm>
              <a:off x="4048200" y="1238400"/>
              <a:ext cx="83484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191120" y="1376280"/>
              <a:ext cx="569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4"/>
          <p:cNvGrpSpPr/>
          <p:nvPr/>
        </p:nvGrpSpPr>
        <p:grpSpPr>
          <a:xfrm>
            <a:off x="3597120" y="2036880"/>
            <a:ext cx="505080" cy="1017360"/>
            <a:chOff x="3597120" y="2036880"/>
            <a:chExt cx="505080" cy="1017360"/>
          </a:xfrm>
        </p:grpSpPr>
        <p:pic>
          <p:nvPicPr>
            <p:cNvPr id="470" name="AutoShape 14" descr=""/>
            <p:cNvPicPr/>
            <p:nvPr/>
          </p:nvPicPr>
          <p:blipFill>
            <a:blip r:embed="rId5"/>
            <a:stretch/>
          </p:blipFill>
          <p:spPr>
            <a:xfrm>
              <a:off x="3597120" y="2036880"/>
              <a:ext cx="50508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743280" y="2060640"/>
              <a:ext cx="21600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AutoShape 15"/>
          <p:cNvGrpSpPr/>
          <p:nvPr/>
        </p:nvGrpSpPr>
        <p:grpSpPr>
          <a:xfrm>
            <a:off x="1736640" y="2182680"/>
            <a:ext cx="628560" cy="1706760"/>
            <a:chOff x="1736640" y="2182680"/>
            <a:chExt cx="628560" cy="1706760"/>
          </a:xfrm>
        </p:grpSpPr>
        <p:pic>
          <p:nvPicPr>
            <p:cNvPr id="473" name="AutoShape 15" descr=""/>
            <p:cNvPicPr/>
            <p:nvPr/>
          </p:nvPicPr>
          <p:blipFill>
            <a:blip r:embed="rId6"/>
            <a:stretch/>
          </p:blipFill>
          <p:spPr>
            <a:xfrm>
              <a:off x="1736640" y="2182680"/>
              <a:ext cx="6285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908000" y="2205000"/>
              <a:ext cx="28764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AutoShape 16" descr=""/>
          <p:cNvPicPr/>
          <p:nvPr/>
        </p:nvPicPr>
        <p:blipFill>
          <a:blip r:embed="rId7"/>
          <a:stretch/>
        </p:blipFill>
        <p:spPr>
          <a:xfrm>
            <a:off x="304920" y="5394240"/>
            <a:ext cx="401400" cy="390600"/>
          </a:xfrm>
          <a:prstGeom prst="rect">
            <a:avLst/>
          </a:prstGeom>
          <a:ln w="0">
            <a:noFill/>
          </a:ln>
        </p:spPr>
      </p:pic>
      <p:pic>
        <p:nvPicPr>
          <p:cNvPr id="476" name="AutoShape 18" descr=""/>
          <p:cNvPicPr/>
          <p:nvPr/>
        </p:nvPicPr>
        <p:blipFill>
          <a:blip r:embed="rId8"/>
          <a:stretch/>
        </p:blipFill>
        <p:spPr>
          <a:xfrm>
            <a:off x="304920" y="5919840"/>
            <a:ext cx="328320" cy="5666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20"/>
          <p:cNvSpPr/>
          <p:nvPr/>
        </p:nvSpPr>
        <p:spPr>
          <a:xfrm>
            <a:off x="5508720" y="5229360"/>
            <a:ext cx="3456000" cy="100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stran la profund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sa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AutoShape 21"/>
          <p:cNvGrpSpPr/>
          <p:nvPr/>
        </p:nvGrpSpPr>
        <p:grpSpPr>
          <a:xfrm>
            <a:off x="4840200" y="5992920"/>
            <a:ext cx="549360" cy="274680"/>
            <a:chOff x="4840200" y="5992920"/>
            <a:chExt cx="549360" cy="274680"/>
          </a:xfrm>
        </p:grpSpPr>
        <p:pic>
          <p:nvPicPr>
            <p:cNvPr id="479" name="AutoShape 21" descr=""/>
            <p:cNvPicPr/>
            <p:nvPr/>
          </p:nvPicPr>
          <p:blipFill>
            <a:blip r:embed="rId9"/>
            <a:stretch/>
          </p:blipFill>
          <p:spPr>
            <a:xfrm>
              <a:off x="4840200" y="5992920"/>
              <a:ext cx="54936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938840" y="6075360"/>
              <a:ext cx="3618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3:20:11Z</dcterms:created>
  <dc:creator>LaSalle</dc:creator>
  <dc:description/>
  <dc:language>en-US</dc:language>
  <cp:lastModifiedBy>Maria Teresa Rosero</cp:lastModifiedBy>
  <dcterms:modified xsi:type="dcterms:W3CDTF">2017-05-02T11:06:59Z</dcterms:modified>
  <cp:revision>50</cp:revision>
  <dc:subject/>
  <dc:title>Teoría de la religión</dc:title>
</cp:coreProperties>
</file>